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E0F-1BBD-408B-84CC-B579E748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0DC-837B-4708-82E0-1065C912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ADCF6-2753-45A3-A6FC-23B8C824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154B0-3ACE-4A27-8F46-4A46CBA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C803C-26AE-418A-BD7E-140338F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4ACBE-8851-4FCA-88DD-A2F49E76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3B85F-04FE-4A90-9A63-2475A957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641E0-B871-404C-AFBE-3F56B190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BF639-A3A6-4E22-8B07-D9F9C0A9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70CD9-46FA-4325-A498-A76BE7FC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49D08-751E-4D57-87EB-9CA6EC66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578FD6-5AD9-4171-9A3B-5B613932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CAA-3121-4911-AFDC-3BF9281F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B29AD2-2B36-4856-9B5A-CC3958BB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54EB6A-F296-4084-9FC0-EB490795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0FB639-82AC-4E29-9785-65F20F46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26237D-77BC-470A-8D93-2627F647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53458F-2382-4FC5-B33E-A8069795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56ACB8-B386-45B7-AD79-CBC4E8A0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B810E-C779-4083-B4FD-66CA8FE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12735A-F345-4645-B248-5ED0C5E0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D14770-4AF9-41CD-86B5-7F520983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454615-F350-4723-BBEF-E5D857EC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2AC-7A15-41FF-9281-43C06519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B4FBB6-C191-4BF3-A10D-9B974E66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114E8-BD11-404F-AF9F-CA402FBA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1C2FA-F0EB-4AB2-AA91-B60BA0E0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49DB3-6AC3-45C9-9F9F-914A335F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E7475-6C24-4EB0-8409-DFCDB274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793CD-AE50-4E34-B997-54940B18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88B3B-1868-43C8-A3A2-5D284FB3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04446-E576-4294-AE4A-8C7C73D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8CC14-58B9-4124-B798-897443C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791BE-9E50-4165-A1D3-F0387C0F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63FF-BE08-4B70-ADCB-8AD9ABE3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5B0D7-5A54-4B21-8311-657685E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53BDA-6481-452E-BF25-F23F85B3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A5603-B2EE-4A11-A568-E2465BCA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8B1D6-54F4-40D0-A723-D7039490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7C042-4E48-4E63-9111-1136F63A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564EA-063A-4E13-9CAE-F245FDF0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551A3-8F60-4101-9AAE-D3AD41A2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F9138-A1C2-42C9-BA94-69438756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66334-1916-4AC3-9741-53B2C725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5C327-F206-424F-8B51-AB01344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E39B-23DF-4A92-828F-F4358577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26A22-58F7-4EE2-B7FF-8D36F08B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6C4A7-FA89-4C89-98E6-86FAA318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67778-881B-4CF2-A027-C1FBF6C0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54F19-84C8-424E-958B-EE354460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69ABE-5986-4A38-9D64-443721A8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16E8-483C-4023-9C4D-C944854B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2D01-0F7E-4879-A6D5-F9E1B428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6D37-8209-4B41-9CF8-AE5E2A5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1017-5B99-44A3-9833-06CAC0F0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8D65-9A78-4F72-8578-6A8F8848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465-0198-4A01-BD6C-F896557B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B90A-DB26-4F52-A18D-560B5BEA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6D94-9D10-4824-BB1B-F7F7DE0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16D5-B897-495A-8487-4C4BE29C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FEA1-CD19-4790-A99F-949651B2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D232-E29C-450F-9BE3-A8985074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75AD-BBE5-47C2-B83C-81CEBD40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FC56-EBED-4A09-A3D9-1E4ACF32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DC6E-5401-422C-B10E-D004862F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3992-1AC5-4792-BEA8-7380B3EB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8C95-0B00-456D-94B5-C8459371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05F-FE7D-437C-B43C-A2BC167D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6488-822E-4D93-8E80-EC398787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C752C-8C50-43D6-86A6-9C1AEE2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A3AC-6D14-4462-B14F-3556DD8A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D06C7-E5A2-4D7D-8EBA-73362B72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D11D-7F62-44E6-9CA6-92DD57D0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FD90A-5C21-4EF6-8AD6-91F7055C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A796-9BA4-46DE-8D98-25CE9438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90C52B-CF4F-4F94-B00E-6A8991FE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102FF-79AC-43AD-8D08-E00E132A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DC43B-B9CA-439A-A6F6-1B58A673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3B2-98CC-4B31-9414-E5564257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27EDF-A79D-4576-B5DB-C8C7F5FC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5F962-FCAD-4440-9FD0-96117671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10D56-79BE-4CAF-B7B6-C2CEE0D6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21E24-8907-4A6F-93F2-07F1487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50174-A9C5-4969-9FB4-F840C3FE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5A5B0-A7BF-433E-8BD9-1CF48341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24003-6A11-4402-A5FB-E67EC671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5FD0A-219A-467E-AEBC-B5AAB5AA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08C0C-3B46-4A26-9347-4C020F64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193A5-C478-4380-BCA0-807ADA52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627-1EA2-480A-BC51-0F03E34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CF833-0187-4973-B567-5FC70027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13A61-CB71-4EB9-89A9-33B720A8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3659C-2E90-4DEC-AD70-1BED8F68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5A232-6CDF-4F58-A8C0-425E25E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2481E-B610-4FB4-BBDC-C1590334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DF41C-66BB-4CBE-9880-CD60EF44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E217B-B07A-4DD2-B641-D26CE25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25F1A-3D69-4C17-93C8-BD54E7F2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DC5BE-3E9E-4D04-A6EB-5EF75BF4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4EA79-775F-4041-B757-4BF89EC7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7BD-07F9-4566-A0A1-0549D6B2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C8B49-C9A4-488C-9712-7AD62542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F99A86-1EAE-453A-BDBA-2F2217EA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64234-F9E0-4485-A1A7-EF2203DB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483B8-5B62-4A9D-88BD-FF944D79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6D576-2E5D-4FAF-BD2A-49EEC4B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A7BF0-8965-497A-967A-08CA81B0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3C3BF-6FCB-4D31-B683-1B7CD1D2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8E94D-BE18-464F-9086-84F3C3BE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0E89F-E32C-45B4-854D-CEA9196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5094F-971E-4AA3-8113-3153BB6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B7A-6186-4082-A95B-D1A7F00A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F983B-464E-421D-8498-D78EC6A4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549F6-B3A4-4F30-A2A1-781E667D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C3377-B020-424E-8C40-FDC48809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507B7-93E8-4724-B280-2AF19830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8B160-0451-4CA8-93F8-97F624C7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CC6CF-3804-478D-98B0-4A5A184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08C53-0675-4069-84EB-CEEC28EE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192DD-DEAB-4DAA-98F1-F76E35EA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E981A-859C-4A40-9815-17E3E4B8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D1C89-F109-4453-B449-A2DC5813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CFC-9945-4648-A870-34897FEF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8F07-1C23-4AB4-ADEA-F2B425D1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C79B8-A3DE-4DCA-A21A-BBDF5E4F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B962F-219E-4557-ACCE-2BF63C69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78B9-2DE2-40C2-9399-44087E5E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B28AB-28B7-404C-A9C4-52313081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206CC-5FDD-40EE-8813-D699D095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45883-4974-4A9D-8BB2-7DC6C3E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3A018-453C-41E0-BAA5-57DEFA42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179C0-194A-44A4-8717-B1B213A3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C4F91-0954-451F-905F-FBA85087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B4D-208D-4145-842C-9D12A0BA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01E78-0546-48C8-AC72-F4CB5FC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29E80-5A63-427D-A825-91443BEF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9D690-F542-4338-9FE9-AA7EFFF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6DF46-63BA-4B58-A39A-4B9F757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79D72-E147-4867-8533-5EADFCA5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AE7BB-24A5-401F-8D96-0780FC66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93107-823C-4C26-A330-38DB0B87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A149E-C7A2-4EB2-AF6C-8421D0CB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04858-9D56-4EE9-A18E-7468D925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1B7FB-E694-4FE3-BA29-B45C6007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F5E4-FFC8-4141-8A13-326E1CFA68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9EF1-9275-463B-9E30-7EC5C4120C1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082A-841D-4675-8C6B-FFA0720F77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699A-8541-4576-8DB5-C0D5C365A4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1683-AAB7-4CAA-83B8-7B87ACAE89F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1609-48B1-491A-BFBB-5263CA0E8E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3C34-BE65-46AA-B2B6-989365B3A17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3D3-9377-41A6-A987-E176B9BCDF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0034-0637-4503-BECB-C78C48FC64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7887-C371-4467-8F61-F883D67734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B34D-AD6A-4A20-A28C-77DF211DEED5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C00A-8797-4B02-8F62-16376103BE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HAPTER 12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NA Technology and Genomic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666360"/>
            <a:ext cx="8153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tools used to make recombinant DNA a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Tw Cen MT"/>
              </a:rPr>
              <a:t>Restriction enzymes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, which cut DNA at specific sequenc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NA ligase, which “pastes” DNA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restrictive fragments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oge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3 Genes can be cloned in recombinant plasmids: A closer loo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cteria take the recombinant plasmids from their surrounding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nd reproduce, thereby cloning the plasmids and the genes they carr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oning a gene in a bacterial plasmi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6" descr="&#13;12_03_3_U.jpg                                                  0051B33B_x0003_203                            BE738D99:"/>
          <p:cNvPicPr/>
          <p:nvPr/>
        </p:nvPicPr>
        <p:blipFill>
          <a:blip r:embed="rId1"/>
          <a:stretch/>
        </p:blipFill>
        <p:spPr>
          <a:xfrm>
            <a:off x="2638440" y="1282680"/>
            <a:ext cx="2816280" cy="512280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34"/>
          <p:cNvGrpSpPr/>
          <p:nvPr/>
        </p:nvGrpSpPr>
        <p:grpSpPr>
          <a:xfrm>
            <a:off x="3632400" y="1306440"/>
            <a:ext cx="986400" cy="307080"/>
            <a:chOff x="3632400" y="1306440"/>
            <a:chExt cx="986400" cy="307080"/>
          </a:xfrm>
        </p:grpSpPr>
        <p:sp>
          <p:nvSpPr>
            <p:cNvPr id="629" name="Rectangle 7"/>
            <p:cNvSpPr/>
            <p:nvPr/>
          </p:nvSpPr>
          <p:spPr>
            <a:xfrm>
              <a:off x="3632400" y="13971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3"/>
            <p:cNvSpPr/>
            <p:nvPr/>
          </p:nvSpPr>
          <p:spPr>
            <a:xfrm>
              <a:off x="3769200" y="1306440"/>
              <a:ext cx="84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olate DNA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om two sourc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35"/>
          <p:cNvGrpSpPr/>
          <p:nvPr/>
        </p:nvGrpSpPr>
        <p:grpSpPr>
          <a:xfrm>
            <a:off x="3637080" y="1571760"/>
            <a:ext cx="1023840" cy="413640"/>
            <a:chOff x="3637080" y="1571760"/>
            <a:chExt cx="1023840" cy="413640"/>
          </a:xfrm>
        </p:grpSpPr>
        <p:sp>
          <p:nvSpPr>
            <p:cNvPr id="632" name="Rectangle 8"/>
            <p:cNvSpPr/>
            <p:nvPr/>
          </p:nvSpPr>
          <p:spPr>
            <a:xfrm>
              <a:off x="3637080" y="16416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4"/>
            <p:cNvSpPr/>
            <p:nvPr/>
          </p:nvSpPr>
          <p:spPr>
            <a:xfrm>
              <a:off x="3767040" y="1571760"/>
              <a:ext cx="893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ut both DNAs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the same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striction enzy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5"/>
          <p:cNvSpPr/>
          <p:nvPr/>
        </p:nvSpPr>
        <p:spPr>
          <a:xfrm>
            <a:off x="2976480" y="126036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.col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6"/>
          <p:cNvSpPr/>
          <p:nvPr/>
        </p:nvSpPr>
        <p:spPr>
          <a:xfrm>
            <a:off x="2934000" y="1901880"/>
            <a:ext cx="49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7"/>
          <p:cNvSpPr/>
          <p:nvPr/>
        </p:nvSpPr>
        <p:spPr>
          <a:xfrm flipH="1">
            <a:off x="3162240" y="1679400"/>
            <a:ext cx="131760" cy="266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8"/>
          <p:cNvSpPr/>
          <p:nvPr/>
        </p:nvSpPr>
        <p:spPr>
          <a:xfrm>
            <a:off x="4965840" y="1736640"/>
            <a:ext cx="101520" cy="26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9"/>
          <p:cNvSpPr/>
          <p:nvPr/>
        </p:nvSpPr>
        <p:spPr>
          <a:xfrm>
            <a:off x="4964760" y="1971720"/>
            <a:ext cx="36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4476600" y="2152800"/>
            <a:ext cx="479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1"/>
          <p:cNvSpPr/>
          <p:nvPr/>
        </p:nvSpPr>
        <p:spPr>
          <a:xfrm>
            <a:off x="4030560" y="2189160"/>
            <a:ext cx="27648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2"/>
          <p:cNvSpPr/>
          <p:nvPr/>
        </p:nvSpPr>
        <p:spPr>
          <a:xfrm flipH="1">
            <a:off x="4300560" y="2108160"/>
            <a:ext cx="279360" cy="29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3"/>
          <p:cNvSpPr/>
          <p:nvPr/>
        </p:nvSpPr>
        <p:spPr>
          <a:xfrm>
            <a:off x="4054320" y="2373480"/>
            <a:ext cx="63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icky e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36"/>
          <p:cNvGrpSpPr/>
          <p:nvPr/>
        </p:nvGrpSpPr>
        <p:grpSpPr>
          <a:xfrm>
            <a:off x="4064400" y="2513160"/>
            <a:ext cx="925920" cy="413640"/>
            <a:chOff x="4064400" y="2513160"/>
            <a:chExt cx="925920" cy="413640"/>
          </a:xfrm>
        </p:grpSpPr>
        <p:sp>
          <p:nvSpPr>
            <p:cNvPr id="644" name="Rectangle 9"/>
            <p:cNvSpPr/>
            <p:nvPr/>
          </p:nvSpPr>
          <p:spPr>
            <a:xfrm>
              <a:off x="4064400" y="25131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24"/>
            <p:cNvSpPr/>
            <p:nvPr/>
          </p:nvSpPr>
          <p:spPr>
            <a:xfrm>
              <a:off x="4245840" y="2513160"/>
              <a:ext cx="744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x the DNAs;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y join by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se-pai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37"/>
          <p:cNvGrpSpPr/>
          <p:nvPr/>
        </p:nvGrpSpPr>
        <p:grpSpPr>
          <a:xfrm>
            <a:off x="4064400" y="3559320"/>
            <a:ext cx="1431360" cy="315000"/>
            <a:chOff x="4064400" y="3559320"/>
            <a:chExt cx="1431360" cy="315000"/>
          </a:xfrm>
        </p:grpSpPr>
        <p:sp>
          <p:nvSpPr>
            <p:cNvPr id="647" name="Rectangle 10"/>
            <p:cNvSpPr/>
            <p:nvPr/>
          </p:nvSpPr>
          <p:spPr>
            <a:xfrm>
              <a:off x="4064400" y="35593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4248360" y="356724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dd DNA ligase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 bond the DNA covalent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38"/>
          <p:cNvGrpSpPr/>
          <p:nvPr/>
        </p:nvGrpSpPr>
        <p:grpSpPr>
          <a:xfrm>
            <a:off x="4064400" y="4572000"/>
            <a:ext cx="1403280" cy="311760"/>
            <a:chOff x="4064400" y="4572000"/>
            <a:chExt cx="1403280" cy="311760"/>
          </a:xfrm>
        </p:grpSpPr>
        <p:sp>
          <p:nvSpPr>
            <p:cNvPr id="650" name="Rectangle 11"/>
            <p:cNvSpPr/>
            <p:nvPr/>
          </p:nvSpPr>
          <p:spPr>
            <a:xfrm>
              <a:off x="4064400" y="45720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6"/>
            <p:cNvSpPr/>
            <p:nvPr/>
          </p:nvSpPr>
          <p:spPr>
            <a:xfrm>
              <a:off x="4250520" y="4576680"/>
              <a:ext cx="121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t plasmid into bacterium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y trans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Rectangle 27"/>
          <p:cNvSpPr/>
          <p:nvPr/>
        </p:nvSpPr>
        <p:spPr>
          <a:xfrm>
            <a:off x="4508280" y="4114800"/>
            <a:ext cx="479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8"/>
          <p:cNvSpPr/>
          <p:nvPr/>
        </p:nvSpPr>
        <p:spPr>
          <a:xfrm>
            <a:off x="4322880" y="4216320"/>
            <a:ext cx="21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9"/>
          <p:cNvSpPr/>
          <p:nvPr/>
        </p:nvSpPr>
        <p:spPr>
          <a:xfrm>
            <a:off x="2779920" y="412596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 DN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0"/>
          <p:cNvSpPr/>
          <p:nvPr/>
        </p:nvSpPr>
        <p:spPr>
          <a:xfrm>
            <a:off x="2777760" y="496728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39"/>
          <p:cNvGrpSpPr/>
          <p:nvPr/>
        </p:nvGrpSpPr>
        <p:grpSpPr>
          <a:xfrm>
            <a:off x="4062600" y="5246640"/>
            <a:ext cx="1155600" cy="202320"/>
            <a:chOff x="4062600" y="5246640"/>
            <a:chExt cx="1155600" cy="202320"/>
          </a:xfrm>
        </p:grpSpPr>
        <p:sp>
          <p:nvSpPr>
            <p:cNvPr id="657" name="Rectangle 12"/>
            <p:cNvSpPr/>
            <p:nvPr/>
          </p:nvSpPr>
          <p:spPr>
            <a:xfrm>
              <a:off x="4062600" y="524664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31"/>
            <p:cNvSpPr/>
            <p:nvPr/>
          </p:nvSpPr>
          <p:spPr>
            <a:xfrm>
              <a:off x="4251240" y="5248440"/>
              <a:ext cx="966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one the bacteriu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Rectangle 32"/>
          <p:cNvSpPr/>
          <p:nvPr/>
        </p:nvSpPr>
        <p:spPr>
          <a:xfrm>
            <a:off x="3594960" y="6240600"/>
            <a:ext cx="13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al clone carrying many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ies of the human 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3"/>
          <p:cNvSpPr/>
          <p:nvPr/>
        </p:nvSpPr>
        <p:spPr>
          <a:xfrm>
            <a:off x="4622400" y="1260360"/>
            <a:ext cx="62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uman ce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0"/>
          <p:cNvSpPr/>
          <p:nvPr/>
        </p:nvSpPr>
        <p:spPr>
          <a:xfrm>
            <a:off x="1241640" y="60912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2.4 Cloned genes can be stored in genomic librar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omic libraries, sets of DNA fragments containing all of an organism’s ge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n be constructed and stored in cloned bacterial plasmids or phag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3"/>
          <p:cNvGrpSpPr/>
          <p:nvPr/>
        </p:nvGrpSpPr>
        <p:grpSpPr>
          <a:xfrm>
            <a:off x="2962080" y="3855960"/>
            <a:ext cx="3369240" cy="2575800"/>
            <a:chOff x="2962080" y="3855960"/>
            <a:chExt cx="3369240" cy="2575800"/>
          </a:xfrm>
        </p:grpSpPr>
        <p:pic>
          <p:nvPicPr>
            <p:cNvPr id="666" name="Picture 6" descr="_x000b_12_04_U.jpg                                                    0051B33B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2994120" y="3911760"/>
              <a:ext cx="308772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7"/>
            <p:cNvSpPr/>
            <p:nvPr/>
          </p:nvSpPr>
          <p:spPr>
            <a:xfrm>
              <a:off x="3201840" y="391644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mbinan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smi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8"/>
            <p:cNvSpPr/>
            <p:nvPr/>
          </p:nvSpPr>
          <p:spPr>
            <a:xfrm>
              <a:off x="3591000" y="427212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"/>
            <p:cNvSpPr/>
            <p:nvPr/>
          </p:nvSpPr>
          <p:spPr>
            <a:xfrm>
              <a:off x="5006160" y="385596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ome cut up with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triction enzy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"/>
            <p:cNvSpPr/>
            <p:nvPr/>
          </p:nvSpPr>
          <p:spPr>
            <a:xfrm>
              <a:off x="5473800" y="418320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mbinan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1"/>
            <p:cNvSpPr/>
            <p:nvPr/>
          </p:nvSpPr>
          <p:spPr>
            <a:xfrm>
              <a:off x="5705640" y="4521240"/>
              <a:ext cx="18072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2"/>
            <p:cNvSpPr/>
            <p:nvPr/>
          </p:nvSpPr>
          <p:spPr>
            <a:xfrm>
              <a:off x="4590720" y="4503600"/>
              <a:ext cx="28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3"/>
            <p:cNvSpPr/>
            <p:nvPr/>
          </p:nvSpPr>
          <p:spPr>
            <a:xfrm>
              <a:off x="3832200" y="579276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teri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4845600" y="5754600"/>
              <a:ext cx="51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5"/>
            <p:cNvSpPr/>
            <p:nvPr/>
          </p:nvSpPr>
          <p:spPr>
            <a:xfrm>
              <a:off x="5203800" y="6188040"/>
              <a:ext cx="907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hage libr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6"/>
            <p:cNvSpPr/>
            <p:nvPr/>
          </p:nvSpPr>
          <p:spPr>
            <a:xfrm>
              <a:off x="2962080" y="6200640"/>
              <a:ext cx="1003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lasmid libr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17"/>
            <p:cNvSpPr/>
            <p:nvPr/>
          </p:nvSpPr>
          <p:spPr>
            <a:xfrm>
              <a:off x="3805200" y="5684760"/>
              <a:ext cx="76320" cy="4762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2240 h 476280"/>
                <a:gd name="textAreaBottom" fmla="*/ 46404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18"/>
            <p:cNvSpPr/>
            <p:nvPr/>
          </p:nvSpPr>
          <p:spPr>
            <a:xfrm rot="10800000">
              <a:off x="5298840" y="5667480"/>
              <a:ext cx="75960" cy="412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0440 h 412560"/>
                <a:gd name="textAreaBottom" fmla="*/ 402120 h 4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Text Box 21"/>
          <p:cNvSpPr/>
          <p:nvPr/>
        </p:nvSpPr>
        <p:spPr>
          <a:xfrm>
            <a:off x="1863720" y="616752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2.5 Reverse transcriptase helps make genes for clon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812880" indent="-317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verse transcriptase can be used to make smaller, complementary DNA (cDNA) librar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854360" indent="-559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taining only the genes that are transcribed by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a particular type of cel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23" descr="_x000b_12_05_U.jpg                                                    0051B33B_x0003_203                            BE738D99:"/>
          <p:cNvPicPr/>
          <p:nvPr/>
        </p:nvPicPr>
        <p:blipFill>
          <a:blip r:embed="rId1"/>
          <a:stretch/>
        </p:blipFill>
        <p:spPr>
          <a:xfrm>
            <a:off x="3241800" y="3327480"/>
            <a:ext cx="2682720" cy="307008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24"/>
          <p:cNvSpPr/>
          <p:nvPr/>
        </p:nvSpPr>
        <p:spPr>
          <a:xfrm>
            <a:off x="3359520" y="3448080"/>
            <a:ext cx="69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ell nucle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5"/>
          <p:cNvSpPr/>
          <p:nvPr/>
        </p:nvSpPr>
        <p:spPr>
          <a:xfrm>
            <a:off x="3485160" y="3646440"/>
            <a:ext cx="581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NA of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ukaryotic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6"/>
          <p:cNvSpPr/>
          <p:nvPr/>
        </p:nvSpPr>
        <p:spPr>
          <a:xfrm>
            <a:off x="3935520" y="3622680"/>
            <a:ext cx="381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7"/>
          <p:cNvSpPr/>
          <p:nvPr/>
        </p:nvSpPr>
        <p:spPr>
          <a:xfrm>
            <a:off x="4172760" y="3614760"/>
            <a:ext cx="40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r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8"/>
          <p:cNvSpPr/>
          <p:nvPr/>
        </p:nvSpPr>
        <p:spPr>
          <a:xfrm>
            <a:off x="4489560" y="3606840"/>
            <a:ext cx="381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9"/>
          <p:cNvSpPr/>
          <p:nvPr/>
        </p:nvSpPr>
        <p:spPr>
          <a:xfrm>
            <a:off x="4791960" y="3614760"/>
            <a:ext cx="40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r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0"/>
          <p:cNvSpPr/>
          <p:nvPr/>
        </p:nvSpPr>
        <p:spPr>
          <a:xfrm>
            <a:off x="5070600" y="3611520"/>
            <a:ext cx="381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57"/>
          <p:cNvGrpSpPr/>
          <p:nvPr/>
        </p:nvGrpSpPr>
        <p:grpSpPr>
          <a:xfrm>
            <a:off x="4646520" y="3902040"/>
            <a:ext cx="735120" cy="185400"/>
            <a:chOff x="4646520" y="3902040"/>
            <a:chExt cx="735120" cy="185400"/>
          </a:xfrm>
        </p:grpSpPr>
        <p:sp>
          <p:nvSpPr>
            <p:cNvPr id="692" name="Rectangle 31"/>
            <p:cNvSpPr/>
            <p:nvPr/>
          </p:nvSpPr>
          <p:spPr>
            <a:xfrm>
              <a:off x="4646520" y="39020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36"/>
            <p:cNvSpPr/>
            <p:nvPr/>
          </p:nvSpPr>
          <p:spPr>
            <a:xfrm>
              <a:off x="4757400" y="3902040"/>
              <a:ext cx="624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58"/>
          <p:cNvGrpSpPr/>
          <p:nvPr/>
        </p:nvGrpSpPr>
        <p:grpSpPr>
          <a:xfrm>
            <a:off x="4656240" y="4267080"/>
            <a:ext cx="883440" cy="278640"/>
            <a:chOff x="4656240" y="4267080"/>
            <a:chExt cx="883440" cy="278640"/>
          </a:xfrm>
        </p:grpSpPr>
        <p:sp>
          <p:nvSpPr>
            <p:cNvPr id="695" name="Rectangle 32"/>
            <p:cNvSpPr/>
            <p:nvPr/>
          </p:nvSpPr>
          <p:spPr>
            <a:xfrm>
              <a:off x="4656240" y="42670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37"/>
            <p:cNvSpPr/>
            <p:nvPr/>
          </p:nvSpPr>
          <p:spPr>
            <a:xfrm>
              <a:off x="4761720" y="4268880"/>
              <a:ext cx="777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NA splicing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removes introns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51"/>
          <p:cNvGrpSpPr/>
          <p:nvPr/>
        </p:nvGrpSpPr>
        <p:grpSpPr>
          <a:xfrm>
            <a:off x="4656240" y="4892760"/>
            <a:ext cx="1092600" cy="459720"/>
            <a:chOff x="4656240" y="4892760"/>
            <a:chExt cx="1092600" cy="459720"/>
          </a:xfrm>
        </p:grpSpPr>
        <p:sp>
          <p:nvSpPr>
            <p:cNvPr id="698" name="Rectangle 33"/>
            <p:cNvSpPr/>
            <p:nvPr/>
          </p:nvSpPr>
          <p:spPr>
            <a:xfrm>
              <a:off x="4656240" y="49039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38"/>
            <p:cNvSpPr/>
            <p:nvPr/>
          </p:nvSpPr>
          <p:spPr>
            <a:xfrm>
              <a:off x="4745160" y="489276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olation of mRN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om cell and addition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 reverse transcriptase;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ynthesis of DNA str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52"/>
          <p:cNvGrpSpPr/>
          <p:nvPr/>
        </p:nvGrpSpPr>
        <p:grpSpPr>
          <a:xfrm>
            <a:off x="4648320" y="5522760"/>
            <a:ext cx="951480" cy="193320"/>
            <a:chOff x="4648320" y="5522760"/>
            <a:chExt cx="951480" cy="193320"/>
          </a:xfrm>
        </p:grpSpPr>
        <p:sp>
          <p:nvSpPr>
            <p:cNvPr id="701" name="Rectangle 34"/>
            <p:cNvSpPr/>
            <p:nvPr/>
          </p:nvSpPr>
          <p:spPr>
            <a:xfrm>
              <a:off x="4648320" y="55227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39"/>
            <p:cNvSpPr/>
            <p:nvPr/>
          </p:nvSpPr>
          <p:spPr>
            <a:xfrm>
              <a:off x="4770000" y="5530680"/>
              <a:ext cx="829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reakdown of R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53"/>
          <p:cNvGrpSpPr/>
          <p:nvPr/>
        </p:nvGrpSpPr>
        <p:grpSpPr>
          <a:xfrm>
            <a:off x="4651560" y="5819760"/>
            <a:ext cx="969480" cy="276840"/>
            <a:chOff x="4651560" y="5819760"/>
            <a:chExt cx="969480" cy="276840"/>
          </a:xfrm>
        </p:grpSpPr>
        <p:sp>
          <p:nvSpPr>
            <p:cNvPr id="704" name="Rectangle 35"/>
            <p:cNvSpPr/>
            <p:nvPr/>
          </p:nvSpPr>
          <p:spPr>
            <a:xfrm>
              <a:off x="4651560" y="58374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0"/>
            <p:cNvSpPr/>
            <p:nvPr/>
          </p:nvSpPr>
          <p:spPr>
            <a:xfrm>
              <a:off x="4755960" y="5819760"/>
              <a:ext cx="865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ynthesis of second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NA str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Rectangle 41"/>
          <p:cNvSpPr/>
          <p:nvPr/>
        </p:nvSpPr>
        <p:spPr>
          <a:xfrm>
            <a:off x="3485880" y="405612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NA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42"/>
          <p:cNvSpPr/>
          <p:nvPr/>
        </p:nvSpPr>
        <p:spPr>
          <a:xfrm>
            <a:off x="3483000" y="4535640"/>
            <a:ext cx="441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3"/>
          <p:cNvSpPr/>
          <p:nvPr/>
        </p:nvSpPr>
        <p:spPr>
          <a:xfrm>
            <a:off x="3321360" y="5199120"/>
            <a:ext cx="103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44"/>
          <p:cNvSpPr/>
          <p:nvPr/>
        </p:nvSpPr>
        <p:spPr>
          <a:xfrm>
            <a:off x="4295880" y="5300640"/>
            <a:ext cx="17136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45"/>
          <p:cNvSpPr/>
          <p:nvPr/>
        </p:nvSpPr>
        <p:spPr>
          <a:xfrm flipH="1">
            <a:off x="3983040" y="5518080"/>
            <a:ext cx="20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6"/>
          <p:cNvSpPr/>
          <p:nvPr/>
        </p:nvSpPr>
        <p:spPr>
          <a:xfrm>
            <a:off x="3359160" y="5430960"/>
            <a:ext cx="68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DNA str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7"/>
          <p:cNvSpPr/>
          <p:nvPr/>
        </p:nvSpPr>
        <p:spPr>
          <a:xfrm>
            <a:off x="3489840" y="600552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DNA of gen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no intron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8"/>
          <p:cNvSpPr/>
          <p:nvPr/>
        </p:nvSpPr>
        <p:spPr>
          <a:xfrm>
            <a:off x="3276720" y="5045040"/>
            <a:ext cx="569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st tub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6"/>
          <p:cNvSpPr/>
          <p:nvPr/>
        </p:nvSpPr>
        <p:spPr>
          <a:xfrm>
            <a:off x="2232000" y="60912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975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2.6 Recombinant cells and organisms can mass-produce gene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90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lications of gene cloning includ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90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ass production of gene products for medical and other 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9"/>
          <p:cNvGrpSpPr/>
          <p:nvPr/>
        </p:nvGrpSpPr>
        <p:grpSpPr>
          <a:xfrm>
            <a:off x="3749760" y="3486240"/>
            <a:ext cx="4898520" cy="2948040"/>
            <a:chOff x="3749760" y="3486240"/>
            <a:chExt cx="4898520" cy="2948040"/>
          </a:xfrm>
        </p:grpSpPr>
        <p:pic>
          <p:nvPicPr>
            <p:cNvPr id="719" name="Picture 6" descr="_x000b_12_06_T.jpg                                                    0051B31F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4619880" y="3486240"/>
              <a:ext cx="4028400" cy="29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7"/>
            <p:cNvSpPr/>
            <p:nvPr/>
          </p:nvSpPr>
          <p:spPr>
            <a:xfrm>
              <a:off x="3749760" y="615780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2.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ferent organisms, including bacteria, yeast, and mamma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be used for this purpos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25"/>
          <p:cNvGrpSpPr/>
          <p:nvPr/>
        </p:nvGrpSpPr>
        <p:grpSpPr>
          <a:xfrm>
            <a:off x="1344600" y="2548080"/>
            <a:ext cx="6346800" cy="3916080"/>
            <a:chOff x="1344600" y="2548080"/>
            <a:chExt cx="6346800" cy="3916080"/>
          </a:xfrm>
        </p:grpSpPr>
        <p:pic>
          <p:nvPicPr>
            <p:cNvPr id="725" name="Picture 23" descr="_x000b_12_06_U.jpg    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2282760" y="2548080"/>
              <a:ext cx="5408640" cy="39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24"/>
            <p:cNvSpPr/>
            <p:nvPr/>
          </p:nvSpPr>
          <p:spPr>
            <a:xfrm>
              <a:off x="1344600" y="61009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7 DNA technology is changing the pharmaceutical indus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widely used to produce medicines and to diagnose diseas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Times New Roman"/>
              </a:rPr>
              <a:t>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Therapeutic hormo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1982, humulin, human insulin produced by bacter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Became the first recombinant drug approved by the Food and Drug Administr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5419800" y="3611520"/>
            <a:ext cx="2579760" cy="2881440"/>
            <a:chOff x="5419800" y="3611520"/>
            <a:chExt cx="2579760" cy="2881440"/>
          </a:xfrm>
        </p:grpSpPr>
        <p:pic>
          <p:nvPicPr>
            <p:cNvPr id="735" name="Picture 5" descr="_x000c_12_07a_U.jpg   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6546960" y="3611520"/>
              <a:ext cx="14526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6"/>
            <p:cNvSpPr/>
            <p:nvPr/>
          </p:nvSpPr>
          <p:spPr>
            <a:xfrm>
              <a:off x="5419800" y="61135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Diagnosis and Treatment of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being used increasingly in disease diagnos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NA and Crime Scene Investig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ny violent crimes go unsolv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or lack of enough evide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biological fluids are left at a crime sce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NA can be isolated from the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12"/>
          <p:cNvGrpSpPr/>
          <p:nvPr/>
        </p:nvGrpSpPr>
        <p:grpSpPr>
          <a:xfrm>
            <a:off x="3235320" y="4116240"/>
            <a:ext cx="2771640" cy="2376720"/>
            <a:chOff x="3235320" y="4116240"/>
            <a:chExt cx="2771640" cy="2376720"/>
          </a:xfrm>
        </p:grpSpPr>
        <p:pic>
          <p:nvPicPr>
            <p:cNvPr id="533" name="Picture 13" descr="_x000f_12_UN230a_U.jpg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3235320" y="4116240"/>
              <a:ext cx="1755360" cy="23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14" descr="_x000f_12_UN230b_U.jpg                                                0051B309_x0003_203                            BE738D99:"/>
            <p:cNvPicPr/>
            <p:nvPr/>
          </p:nvPicPr>
          <p:blipFill>
            <a:blip r:embed="rId2"/>
            <a:stretch/>
          </p:blipFill>
          <p:spPr>
            <a:xfrm>
              <a:off x="4946400" y="5001120"/>
              <a:ext cx="1060560" cy="13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acci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also helping medical researchers develop vaccin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1773360" y="3289320"/>
            <a:ext cx="5252400" cy="3177000"/>
            <a:chOff x="1773360" y="3289320"/>
            <a:chExt cx="5252400" cy="3177000"/>
          </a:xfrm>
        </p:grpSpPr>
        <p:pic>
          <p:nvPicPr>
            <p:cNvPr id="744" name="Picture 4" descr="_x000c_12_07b_U.jpg   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2968560" y="3289320"/>
              <a:ext cx="405720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5"/>
            <p:cNvSpPr/>
            <p:nvPr/>
          </p:nvSpPr>
          <p:spPr>
            <a:xfrm>
              <a:off x="1773360" y="61898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STRICTION FRAGMENT ANALYSIS AND DNA FINGERPRINTIN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8 Nucleic acid probes identify clones carrying specific ge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450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technology metho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be used to identify specific pieces of DN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1152360" y="63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nucleic acid prob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a short, single-stranded molecule of radioactively labeled or fluorescently labeled DNA or RN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tag a desired gene in a librar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20"/>
          <p:cNvGrpSpPr/>
          <p:nvPr/>
        </p:nvGrpSpPr>
        <p:grpSpPr>
          <a:xfrm>
            <a:off x="2446200" y="3559320"/>
            <a:ext cx="4043880" cy="2865240"/>
            <a:chOff x="2446200" y="3559320"/>
            <a:chExt cx="4043880" cy="2865240"/>
          </a:xfrm>
        </p:grpSpPr>
        <p:pic>
          <p:nvPicPr>
            <p:cNvPr id="754" name="Picture 5" descr="_x000b_12_08_U.jpg                                                    00053933_x0007_Abhinav                        BDE0E65C:"/>
            <p:cNvPicPr/>
            <p:nvPr/>
          </p:nvPicPr>
          <p:blipFill>
            <a:blip r:embed="rId1"/>
            <a:stretch/>
          </p:blipFill>
          <p:spPr>
            <a:xfrm>
              <a:off x="2446200" y="3559320"/>
              <a:ext cx="391176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 Box 6"/>
            <p:cNvSpPr/>
            <p:nvPr/>
          </p:nvSpPr>
          <p:spPr>
            <a:xfrm>
              <a:off x="2886840" y="39038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be (DN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7"/>
            <p:cNvSpPr/>
            <p:nvPr/>
          </p:nvSpPr>
          <p:spPr>
            <a:xfrm>
              <a:off x="2692800" y="4862520"/>
              <a:ext cx="9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ngle-strand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8"/>
            <p:cNvSpPr/>
            <p:nvPr/>
          </p:nvSpPr>
          <p:spPr>
            <a:xfrm>
              <a:off x="4944960" y="4230720"/>
              <a:ext cx="116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x with singl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anded DNA fro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rious bacte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or phage) cl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9"/>
            <p:cNvSpPr/>
            <p:nvPr/>
          </p:nvSpPr>
          <p:spPr>
            <a:xfrm>
              <a:off x="5515200" y="5807160"/>
              <a:ext cx="974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 pair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dicates th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 of inter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0"/>
            <p:cNvSpPr/>
            <p:nvPr/>
          </p:nvSpPr>
          <p:spPr>
            <a:xfrm rot="21514800">
              <a:off x="3896640" y="3898440"/>
              <a:ext cx="816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T C C G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11"/>
            <p:cNvSpPr/>
            <p:nvPr/>
          </p:nvSpPr>
          <p:spPr>
            <a:xfrm rot="19935000">
              <a:off x="2679480" y="5204880"/>
              <a:ext cx="1477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T G C G C T T A T C 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2"/>
            <p:cNvSpPr/>
            <p:nvPr/>
          </p:nvSpPr>
          <p:spPr>
            <a:xfrm rot="19155000">
              <a:off x="3279960" y="5490720"/>
              <a:ext cx="146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G C C T T A T G C A 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3"/>
            <p:cNvSpPr/>
            <p:nvPr/>
          </p:nvSpPr>
          <p:spPr>
            <a:xfrm rot="19910400">
              <a:off x="4763520" y="5219280"/>
              <a:ext cx="976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 T  C  C  G 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4"/>
            <p:cNvSpPr/>
            <p:nvPr/>
          </p:nvSpPr>
          <p:spPr>
            <a:xfrm rot="19669800">
              <a:off x="4657680" y="5643360"/>
              <a:ext cx="1445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G G T A G G C T A  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Text Box 18"/>
          <p:cNvSpPr/>
          <p:nvPr/>
        </p:nvSpPr>
        <p:spPr>
          <a:xfrm>
            <a:off x="1370160" y="60213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9 DNA microarrays test for the expression of many genes at o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microarray ass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reveal patterns of gene expression in different kinds of cel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560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microarra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5" descr="_x000b_12_09_U.jpg                                                    00053933_x0007_Abhinav                        BDE0E65C:"/>
          <p:cNvPicPr/>
          <p:nvPr/>
        </p:nvPicPr>
        <p:blipFill>
          <a:blip r:embed="rId1"/>
          <a:stretch/>
        </p:blipFill>
        <p:spPr>
          <a:xfrm>
            <a:off x="358920" y="1968480"/>
            <a:ext cx="7968960" cy="35672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30"/>
          <p:cNvGrpSpPr/>
          <p:nvPr/>
        </p:nvGrpSpPr>
        <p:grpSpPr>
          <a:xfrm>
            <a:off x="793440" y="3233880"/>
            <a:ext cx="755640" cy="398520"/>
            <a:chOff x="793440" y="3233880"/>
            <a:chExt cx="755640" cy="398520"/>
          </a:xfrm>
        </p:grpSpPr>
        <p:sp>
          <p:nvSpPr>
            <p:cNvPr id="772" name="Text Box 6"/>
            <p:cNvSpPr/>
            <p:nvPr/>
          </p:nvSpPr>
          <p:spPr>
            <a:xfrm>
              <a:off x="793440" y="3252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"/>
            <p:cNvSpPr/>
            <p:nvPr/>
          </p:nvSpPr>
          <p:spPr>
            <a:xfrm>
              <a:off x="933840" y="3233880"/>
              <a:ext cx="615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ol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11"/>
          <p:cNvSpPr/>
          <p:nvPr/>
        </p:nvSpPr>
        <p:spPr>
          <a:xfrm>
            <a:off x="1033920" y="3711600"/>
            <a:ext cx="141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fluorescent D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31"/>
          <p:cNvGrpSpPr/>
          <p:nvPr/>
        </p:nvGrpSpPr>
        <p:grpSpPr>
          <a:xfrm>
            <a:off x="1108080" y="4341960"/>
            <a:ext cx="999360" cy="398520"/>
            <a:chOff x="1108080" y="4341960"/>
            <a:chExt cx="999360" cy="398520"/>
          </a:xfrm>
        </p:grpSpPr>
        <p:sp>
          <p:nvSpPr>
            <p:cNvPr id="776" name="Text Box 9"/>
            <p:cNvSpPr/>
            <p:nvPr/>
          </p:nvSpPr>
          <p:spPr>
            <a:xfrm>
              <a:off x="1108080" y="43545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2"/>
            <p:cNvSpPr/>
            <p:nvPr/>
          </p:nvSpPr>
          <p:spPr>
            <a:xfrm>
              <a:off x="1245600" y="4341960"/>
              <a:ext cx="861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DNA ma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m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32"/>
          <p:cNvGrpSpPr/>
          <p:nvPr/>
        </p:nvGrpSpPr>
        <p:grpSpPr>
          <a:xfrm>
            <a:off x="3522600" y="3490920"/>
            <a:ext cx="1021680" cy="550800"/>
            <a:chOff x="3522600" y="3490920"/>
            <a:chExt cx="1021680" cy="550800"/>
          </a:xfrm>
        </p:grpSpPr>
        <p:sp>
          <p:nvSpPr>
            <p:cNvPr id="779" name="Text Box 7"/>
            <p:cNvSpPr/>
            <p:nvPr/>
          </p:nvSpPr>
          <p:spPr>
            <a:xfrm>
              <a:off x="3522600" y="34909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13"/>
            <p:cNvSpPr/>
            <p:nvPr/>
          </p:nvSpPr>
          <p:spPr>
            <a:xfrm>
              <a:off x="3653280" y="3490920"/>
              <a:ext cx="89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bou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DNA rin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33"/>
          <p:cNvGrpSpPr/>
          <p:nvPr/>
        </p:nvGrpSpPr>
        <p:grpSpPr>
          <a:xfrm>
            <a:off x="3395520" y="4087800"/>
            <a:ext cx="1076760" cy="398520"/>
            <a:chOff x="3395520" y="4087800"/>
            <a:chExt cx="1076760" cy="398520"/>
          </a:xfrm>
        </p:grpSpPr>
        <p:sp>
          <p:nvSpPr>
            <p:cNvPr id="782" name="Text Box 8"/>
            <p:cNvSpPr/>
            <p:nvPr/>
          </p:nvSpPr>
          <p:spPr>
            <a:xfrm>
              <a:off x="3395520" y="4098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4"/>
            <p:cNvSpPr/>
            <p:nvPr/>
          </p:nvSpPr>
          <p:spPr>
            <a:xfrm>
              <a:off x="3520440" y="4087800"/>
              <a:ext cx="951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DNA appli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we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Text Box 15"/>
          <p:cNvSpPr/>
          <p:nvPr/>
        </p:nvSpPr>
        <p:spPr>
          <a:xfrm>
            <a:off x="4757040" y="1954080"/>
            <a:ext cx="114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NA microarr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6"/>
          <p:cNvSpPr/>
          <p:nvPr/>
        </p:nvSpPr>
        <p:spPr>
          <a:xfrm rot="16200000">
            <a:off x="5184000" y="1275120"/>
            <a:ext cx="152280" cy="2103480"/>
          </a:xfrm>
          <a:custGeom>
            <a:avLst/>
            <a:gdLst>
              <a:gd name="textAreaLeft" fmla="*/ 0 w 152280"/>
              <a:gd name="textAreaRight" fmla="*/ 55080 w 152280"/>
              <a:gd name="textAreaTop" fmla="*/ 54720 h 2103480"/>
              <a:gd name="textAreaBottom" fmla="*/ 2048760 h 210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7"/>
          <p:cNvSpPr/>
          <p:nvPr/>
        </p:nvSpPr>
        <p:spPr>
          <a:xfrm>
            <a:off x="4049280" y="2390760"/>
            <a:ext cx="1527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well contains D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a particular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6255360" y="2367000"/>
            <a:ext cx="96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ual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6,400 ge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9"/>
          <p:cNvSpPr/>
          <p:nvPr/>
        </p:nvSpPr>
        <p:spPr>
          <a:xfrm>
            <a:off x="7072200" y="3730680"/>
            <a:ext cx="522360" cy="29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0"/>
          <p:cNvSpPr/>
          <p:nvPr/>
        </p:nvSpPr>
        <p:spPr>
          <a:xfrm>
            <a:off x="7360560" y="3984480"/>
            <a:ext cx="10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fluoresc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1"/>
          <p:cNvSpPr/>
          <p:nvPr/>
        </p:nvSpPr>
        <p:spPr>
          <a:xfrm flipH="1">
            <a:off x="6338880" y="3730680"/>
            <a:ext cx="3780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2"/>
          <p:cNvSpPr/>
          <p:nvPr/>
        </p:nvSpPr>
        <p:spPr>
          <a:xfrm>
            <a:off x="5844600" y="3997440"/>
            <a:ext cx="84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uoresc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3"/>
          <p:cNvSpPr/>
          <p:nvPr/>
        </p:nvSpPr>
        <p:spPr>
          <a:xfrm flipH="1" flipV="1">
            <a:off x="5773320" y="4636800"/>
            <a:ext cx="420840" cy="12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4"/>
          <p:cNvSpPr/>
          <p:nvPr/>
        </p:nvSpPr>
        <p:spPr>
          <a:xfrm>
            <a:off x="5329800" y="447840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5"/>
          <p:cNvSpPr/>
          <p:nvPr/>
        </p:nvSpPr>
        <p:spPr>
          <a:xfrm>
            <a:off x="6434280" y="497520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5907240" y="5418000"/>
            <a:ext cx="10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A of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ed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7"/>
          <p:cNvSpPr/>
          <p:nvPr/>
        </p:nvSpPr>
        <p:spPr>
          <a:xfrm>
            <a:off x="7688160" y="48848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8"/>
          <p:cNvSpPr/>
          <p:nvPr/>
        </p:nvSpPr>
        <p:spPr>
          <a:xfrm>
            <a:off x="7089480" y="5475240"/>
            <a:ext cx="122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A of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expressed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9"/>
          <p:cNvSpPr/>
          <p:nvPr/>
        </p:nvSpPr>
        <p:spPr>
          <a:xfrm>
            <a:off x="3853080" y="57294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0 Gel electrophoresis sorts DNA molecules by siz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19"/>
          <p:cNvGrpSpPr/>
          <p:nvPr/>
        </p:nvGrpSpPr>
        <p:grpSpPr>
          <a:xfrm>
            <a:off x="450720" y="2467080"/>
            <a:ext cx="8236800" cy="3481560"/>
            <a:chOff x="450720" y="2467080"/>
            <a:chExt cx="8236800" cy="3481560"/>
          </a:xfrm>
        </p:grpSpPr>
        <p:grpSp>
          <p:nvGrpSpPr>
            <p:cNvPr id="802" name="Group 4"/>
            <p:cNvGrpSpPr/>
            <p:nvPr/>
          </p:nvGrpSpPr>
          <p:grpSpPr>
            <a:xfrm>
              <a:off x="450720" y="2467080"/>
              <a:ext cx="8236800" cy="3344760"/>
              <a:chOff x="450720" y="2467080"/>
              <a:chExt cx="8236800" cy="3344760"/>
            </a:xfrm>
          </p:grpSpPr>
          <p:pic>
            <p:nvPicPr>
              <p:cNvPr id="803" name="Picture 5" descr="_x000b_12_10_U.jpg                                                    00053933_x0007_Abhinav                        BDE0E65C:"/>
              <p:cNvPicPr/>
              <p:nvPr/>
            </p:nvPicPr>
            <p:blipFill>
              <a:blip r:embed="rId1"/>
              <a:stretch/>
            </p:blipFill>
            <p:spPr>
              <a:xfrm>
                <a:off x="450720" y="2467080"/>
                <a:ext cx="7581960" cy="33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Text Box 6"/>
              <p:cNvSpPr/>
              <p:nvPr/>
            </p:nvSpPr>
            <p:spPr>
              <a:xfrm>
                <a:off x="1319760" y="5407200"/>
                <a:ext cx="2768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Text Box 7"/>
              <p:cNvSpPr/>
              <p:nvPr/>
            </p:nvSpPr>
            <p:spPr>
              <a:xfrm>
                <a:off x="3889800" y="5407200"/>
                <a:ext cx="2768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8"/>
              <p:cNvSpPr/>
              <p:nvPr/>
            </p:nvSpPr>
            <p:spPr>
              <a:xfrm>
                <a:off x="1319400" y="315900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–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Text Box 9"/>
              <p:cNvSpPr/>
              <p:nvPr/>
            </p:nvSpPr>
            <p:spPr>
              <a:xfrm>
                <a:off x="3895920" y="314640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–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10"/>
              <p:cNvSpPr/>
              <p:nvPr/>
            </p:nvSpPr>
            <p:spPr>
              <a:xfrm>
                <a:off x="619200" y="4238640"/>
                <a:ext cx="639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w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11"/>
              <p:cNvSpPr/>
              <p:nvPr/>
            </p:nvSpPr>
            <p:spPr>
              <a:xfrm>
                <a:off x="2979360" y="47084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12"/>
              <p:cNvSpPr/>
              <p:nvPr/>
            </p:nvSpPr>
            <p:spPr>
              <a:xfrm flipV="1">
                <a:off x="2806560" y="4876920"/>
                <a:ext cx="216000" cy="10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13"/>
              <p:cNvSpPr/>
              <p:nvPr/>
            </p:nvSpPr>
            <p:spPr>
              <a:xfrm flipV="1">
                <a:off x="2641680" y="2768760"/>
                <a:ext cx="46980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Text Box 14"/>
              <p:cNvSpPr/>
              <p:nvPr/>
            </p:nvSpPr>
            <p:spPr>
              <a:xfrm>
                <a:off x="3083400" y="2600280"/>
                <a:ext cx="1215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xture of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lecules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fferent siz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15"/>
              <p:cNvSpPr/>
              <p:nvPr/>
            </p:nvSpPr>
            <p:spPr>
              <a:xfrm>
                <a:off x="7819560" y="3581280"/>
                <a:ext cx="867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lecu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Text Box 16"/>
              <p:cNvSpPr/>
              <p:nvPr/>
            </p:nvSpPr>
            <p:spPr>
              <a:xfrm>
                <a:off x="7819560" y="4788000"/>
                <a:ext cx="867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lecu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Text Box 17"/>
              <p:cNvSpPr/>
              <p:nvPr/>
            </p:nvSpPr>
            <p:spPr>
              <a:xfrm>
                <a:off x="6573240" y="5372280"/>
                <a:ext cx="116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mpleted g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" name="Text Box 18"/>
            <p:cNvSpPr/>
            <p:nvPr/>
          </p:nvSpPr>
          <p:spPr>
            <a:xfrm>
              <a:off x="3806640" y="56721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1 Restriction fragment length polymorphisms can be used to detect differences in DNA sequ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How Restriction Fragments Reflect DNA Sequen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striction fragment length polymorphisms (RFLP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flect differences in the sequences of DNA samp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57"/>
          <p:cNvGrpSpPr/>
          <p:nvPr/>
        </p:nvGrpSpPr>
        <p:grpSpPr>
          <a:xfrm>
            <a:off x="4465800" y="3100320"/>
            <a:ext cx="2712960" cy="3363480"/>
            <a:chOff x="4465800" y="3100320"/>
            <a:chExt cx="2712960" cy="3363480"/>
          </a:xfrm>
        </p:grpSpPr>
        <p:pic>
          <p:nvPicPr>
            <p:cNvPr id="824" name="Picture 5" descr="_x000c_12_11a_U.jpg                                                   00053933_x0007_Abhinav                        BDE0E65C:"/>
            <p:cNvPicPr/>
            <p:nvPr/>
          </p:nvPicPr>
          <p:blipFill>
            <a:blip r:embed="rId1"/>
            <a:stretch/>
          </p:blipFill>
          <p:spPr>
            <a:xfrm>
              <a:off x="5122800" y="3216240"/>
              <a:ext cx="205596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 Box 6"/>
            <p:cNvSpPr/>
            <p:nvPr/>
          </p:nvSpPr>
          <p:spPr>
            <a:xfrm>
              <a:off x="5124600" y="310032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rime sce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"/>
            <p:cNvSpPr/>
            <p:nvPr/>
          </p:nvSpPr>
          <p:spPr>
            <a:xfrm>
              <a:off x="6537240" y="310032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sp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8"/>
            <p:cNvSpPr/>
            <p:nvPr/>
          </p:nvSpPr>
          <p:spPr>
            <a:xfrm>
              <a:off x="4716360" y="3328920"/>
              <a:ext cx="203400" cy="68436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17640 h 684360"/>
                <a:gd name="textAreaBottom" fmla="*/ 666720 h 6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9"/>
            <p:cNvSpPr/>
            <p:nvPr/>
          </p:nvSpPr>
          <p:spPr>
            <a:xfrm>
              <a:off x="4703760" y="4005360"/>
              <a:ext cx="203040" cy="1641240"/>
            </a:xfrm>
            <a:custGeom>
              <a:avLst/>
              <a:gdLst>
                <a:gd name="textAreaLeft" fmla="*/ 129600 w 203040"/>
                <a:gd name="textAreaRight" fmla="*/ 203400 w 203040"/>
                <a:gd name="textAreaTop" fmla="*/ 42480 h 1641240"/>
                <a:gd name="textAreaBottom" fmla="*/ 1598760 h 16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10"/>
            <p:cNvSpPr/>
            <p:nvPr/>
          </p:nvSpPr>
          <p:spPr>
            <a:xfrm>
              <a:off x="4703760" y="5646600"/>
              <a:ext cx="203040" cy="549360"/>
            </a:xfrm>
            <a:custGeom>
              <a:avLst/>
              <a:gdLst>
                <a:gd name="textAreaLeft" fmla="*/ 129600 w 203040"/>
                <a:gd name="textAreaRight" fmla="*/ 203400 w 203040"/>
                <a:gd name="textAreaTop" fmla="*/ 14040 h 549360"/>
                <a:gd name="textAreaBottom" fmla="*/ 5353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11"/>
            <p:cNvSpPr/>
            <p:nvPr/>
          </p:nvSpPr>
          <p:spPr>
            <a:xfrm>
              <a:off x="6108840" y="3328920"/>
              <a:ext cx="203040" cy="2317680"/>
            </a:xfrm>
            <a:custGeom>
              <a:avLst/>
              <a:gdLst>
                <a:gd name="textAreaLeft" fmla="*/ 129600 w 203040"/>
                <a:gd name="textAreaRight" fmla="*/ 203400 w 203040"/>
                <a:gd name="textAreaTop" fmla="*/ 60120 h 2317680"/>
                <a:gd name="textAreaBottom" fmla="*/ 2257560 h 23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12"/>
            <p:cNvSpPr/>
            <p:nvPr/>
          </p:nvSpPr>
          <p:spPr>
            <a:xfrm>
              <a:off x="6108840" y="5646600"/>
              <a:ext cx="203040" cy="549360"/>
            </a:xfrm>
            <a:custGeom>
              <a:avLst/>
              <a:gdLst>
                <a:gd name="textAreaLeft" fmla="*/ 129600 w 203040"/>
                <a:gd name="textAreaRight" fmla="*/ 203400 w 203040"/>
                <a:gd name="textAreaTop" fmla="*/ 14040 h 549360"/>
                <a:gd name="textAreaBottom" fmla="*/ 5353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3"/>
            <p:cNvSpPr/>
            <p:nvPr/>
          </p:nvSpPr>
          <p:spPr>
            <a:xfrm>
              <a:off x="4465800" y="355428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14"/>
            <p:cNvSpPr/>
            <p:nvPr/>
          </p:nvSpPr>
          <p:spPr>
            <a:xfrm>
              <a:off x="4497120" y="472428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5"/>
            <p:cNvSpPr/>
            <p:nvPr/>
          </p:nvSpPr>
          <p:spPr>
            <a:xfrm>
              <a:off x="4497120" y="580248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6"/>
            <p:cNvSpPr/>
            <p:nvPr/>
          </p:nvSpPr>
          <p:spPr>
            <a:xfrm>
              <a:off x="5909760" y="580248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7"/>
            <p:cNvSpPr/>
            <p:nvPr/>
          </p:nvSpPr>
          <p:spPr>
            <a:xfrm>
              <a:off x="5927400" y="436104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18"/>
            <p:cNvSpPr/>
            <p:nvPr/>
          </p:nvSpPr>
          <p:spPr>
            <a:xfrm>
              <a:off x="6240240" y="55306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19"/>
            <p:cNvSpPr/>
            <p:nvPr/>
          </p:nvSpPr>
          <p:spPr>
            <a:xfrm>
              <a:off x="4884480" y="55180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20"/>
            <p:cNvSpPr/>
            <p:nvPr/>
          </p:nvSpPr>
          <p:spPr>
            <a:xfrm>
              <a:off x="4897440" y="38973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21"/>
            <p:cNvSpPr/>
            <p:nvPr/>
          </p:nvSpPr>
          <p:spPr>
            <a:xfrm>
              <a:off x="5218200" y="6232680"/>
              <a:ext cx="1434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 from chromosom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22"/>
            <p:cNvSpPr/>
            <p:nvPr/>
          </p:nvSpPr>
          <p:spPr>
            <a:xfrm>
              <a:off x="5316840" y="382284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23"/>
            <p:cNvSpPr/>
            <p:nvPr/>
          </p:nvSpPr>
          <p:spPr>
            <a:xfrm>
              <a:off x="5316840" y="395748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24"/>
            <p:cNvSpPr/>
            <p:nvPr/>
          </p:nvSpPr>
          <p:spPr>
            <a:xfrm>
              <a:off x="5316840" y="41004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25"/>
            <p:cNvSpPr/>
            <p:nvPr/>
          </p:nvSpPr>
          <p:spPr>
            <a:xfrm>
              <a:off x="5316840" y="42433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6"/>
            <p:cNvSpPr/>
            <p:nvPr/>
          </p:nvSpPr>
          <p:spPr>
            <a:xfrm>
              <a:off x="5492880" y="38228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27"/>
            <p:cNvSpPr/>
            <p:nvPr/>
          </p:nvSpPr>
          <p:spPr>
            <a:xfrm>
              <a:off x="5492880" y="395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28"/>
            <p:cNvSpPr/>
            <p:nvPr/>
          </p:nvSpPr>
          <p:spPr>
            <a:xfrm>
              <a:off x="5492880" y="410040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29"/>
            <p:cNvSpPr/>
            <p:nvPr/>
          </p:nvSpPr>
          <p:spPr>
            <a:xfrm>
              <a:off x="5492880" y="42433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30"/>
            <p:cNvSpPr/>
            <p:nvPr/>
          </p:nvSpPr>
          <p:spPr>
            <a:xfrm>
              <a:off x="6643440" y="39085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1"/>
            <p:cNvSpPr/>
            <p:nvPr/>
          </p:nvSpPr>
          <p:spPr>
            <a:xfrm>
              <a:off x="6635880" y="40435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32"/>
            <p:cNvSpPr/>
            <p:nvPr/>
          </p:nvSpPr>
          <p:spPr>
            <a:xfrm>
              <a:off x="6635880" y="4186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33"/>
            <p:cNvSpPr/>
            <p:nvPr/>
          </p:nvSpPr>
          <p:spPr>
            <a:xfrm>
              <a:off x="6635880" y="43290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34"/>
            <p:cNvSpPr/>
            <p:nvPr/>
          </p:nvSpPr>
          <p:spPr>
            <a:xfrm>
              <a:off x="6798960" y="390852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35"/>
            <p:cNvSpPr/>
            <p:nvPr/>
          </p:nvSpPr>
          <p:spPr>
            <a:xfrm>
              <a:off x="6793200" y="40435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36"/>
            <p:cNvSpPr/>
            <p:nvPr/>
          </p:nvSpPr>
          <p:spPr>
            <a:xfrm>
              <a:off x="6799320" y="418608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37"/>
            <p:cNvSpPr/>
            <p:nvPr/>
          </p:nvSpPr>
          <p:spPr>
            <a:xfrm>
              <a:off x="6799320" y="432900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38"/>
            <p:cNvSpPr/>
            <p:nvPr/>
          </p:nvSpPr>
          <p:spPr>
            <a:xfrm>
              <a:off x="6629400" y="54547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39"/>
            <p:cNvSpPr/>
            <p:nvPr/>
          </p:nvSpPr>
          <p:spPr>
            <a:xfrm>
              <a:off x="6621480" y="559116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40"/>
            <p:cNvSpPr/>
            <p:nvPr/>
          </p:nvSpPr>
          <p:spPr>
            <a:xfrm>
              <a:off x="6621840" y="57355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41"/>
            <p:cNvSpPr/>
            <p:nvPr/>
          </p:nvSpPr>
          <p:spPr>
            <a:xfrm>
              <a:off x="6621840" y="58770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42"/>
            <p:cNvSpPr/>
            <p:nvPr/>
          </p:nvSpPr>
          <p:spPr>
            <a:xfrm>
              <a:off x="6797880" y="545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43"/>
            <p:cNvSpPr/>
            <p:nvPr/>
          </p:nvSpPr>
          <p:spPr>
            <a:xfrm>
              <a:off x="6804360" y="55911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44"/>
            <p:cNvSpPr/>
            <p:nvPr/>
          </p:nvSpPr>
          <p:spPr>
            <a:xfrm>
              <a:off x="6807240" y="57355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45"/>
            <p:cNvSpPr/>
            <p:nvPr/>
          </p:nvSpPr>
          <p:spPr>
            <a:xfrm>
              <a:off x="6810480" y="587700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46"/>
            <p:cNvSpPr/>
            <p:nvPr/>
          </p:nvSpPr>
          <p:spPr>
            <a:xfrm>
              <a:off x="5321520" y="54547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47"/>
            <p:cNvSpPr/>
            <p:nvPr/>
          </p:nvSpPr>
          <p:spPr>
            <a:xfrm>
              <a:off x="5321520" y="559116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48"/>
            <p:cNvSpPr/>
            <p:nvPr/>
          </p:nvSpPr>
          <p:spPr>
            <a:xfrm>
              <a:off x="5321520" y="57355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49"/>
            <p:cNvSpPr/>
            <p:nvPr/>
          </p:nvSpPr>
          <p:spPr>
            <a:xfrm>
              <a:off x="5321520" y="58770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50"/>
            <p:cNvSpPr/>
            <p:nvPr/>
          </p:nvSpPr>
          <p:spPr>
            <a:xfrm>
              <a:off x="5497560" y="545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51"/>
            <p:cNvSpPr/>
            <p:nvPr/>
          </p:nvSpPr>
          <p:spPr>
            <a:xfrm>
              <a:off x="5497560" y="55911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52"/>
            <p:cNvSpPr/>
            <p:nvPr/>
          </p:nvSpPr>
          <p:spPr>
            <a:xfrm>
              <a:off x="5497560" y="57355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53"/>
            <p:cNvSpPr/>
            <p:nvPr/>
          </p:nvSpPr>
          <p:spPr>
            <a:xfrm>
              <a:off x="5497560" y="587700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55"/>
          <p:cNvSpPr/>
          <p:nvPr/>
        </p:nvSpPr>
        <p:spPr>
          <a:xfrm>
            <a:off x="3336480" y="614844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fter digestion by restriction enzy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fragments are run through a g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8"/>
          <p:cNvGrpSpPr/>
          <p:nvPr/>
        </p:nvGrpSpPr>
        <p:grpSpPr>
          <a:xfrm>
            <a:off x="585360" y="2070000"/>
            <a:ext cx="8120520" cy="4457880"/>
            <a:chOff x="585360" y="2070000"/>
            <a:chExt cx="8120520" cy="4457880"/>
          </a:xfrm>
        </p:grpSpPr>
        <p:grpSp>
          <p:nvGrpSpPr>
            <p:cNvPr id="878" name="Group 4"/>
            <p:cNvGrpSpPr/>
            <p:nvPr/>
          </p:nvGrpSpPr>
          <p:grpSpPr>
            <a:xfrm>
              <a:off x="1773360" y="2070000"/>
              <a:ext cx="6932520" cy="4457880"/>
              <a:chOff x="1773360" y="2070000"/>
              <a:chExt cx="6932520" cy="4457880"/>
            </a:xfrm>
          </p:grpSpPr>
          <p:pic>
            <p:nvPicPr>
              <p:cNvPr id="879" name="Picture 5" descr="_x000c_12_11b_U.jpg                                                   00053933_x0007_Abhinav                        BDE0E65C:"/>
              <p:cNvPicPr/>
              <p:nvPr/>
            </p:nvPicPr>
            <p:blipFill>
              <a:blip r:embed="rId1"/>
              <a:stretch/>
            </p:blipFill>
            <p:spPr>
              <a:xfrm>
                <a:off x="2292480" y="2070000"/>
                <a:ext cx="6413400" cy="44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Text Box 6"/>
              <p:cNvSpPr/>
              <p:nvPr/>
            </p:nvSpPr>
            <p:spPr>
              <a:xfrm>
                <a:off x="2449440" y="2276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7"/>
              <p:cNvSpPr/>
              <p:nvPr/>
            </p:nvSpPr>
            <p:spPr>
              <a:xfrm>
                <a:off x="2437200" y="607356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8"/>
              <p:cNvSpPr/>
              <p:nvPr/>
            </p:nvSpPr>
            <p:spPr>
              <a:xfrm>
                <a:off x="1773360" y="2633760"/>
                <a:ext cx="974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ng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rag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9"/>
              <p:cNvSpPr/>
              <p:nvPr/>
            </p:nvSpPr>
            <p:spPr>
              <a:xfrm>
                <a:off x="1773360" y="5592600"/>
                <a:ext cx="974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rag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10"/>
              <p:cNvSpPr/>
              <p:nvPr/>
            </p:nvSpPr>
            <p:spPr>
              <a:xfrm>
                <a:off x="3553920" y="4095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11"/>
              <p:cNvSpPr/>
              <p:nvPr/>
            </p:nvSpPr>
            <p:spPr>
              <a:xfrm>
                <a:off x="3554640" y="5073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Text Box 12"/>
              <p:cNvSpPr/>
              <p:nvPr/>
            </p:nvSpPr>
            <p:spPr>
              <a:xfrm>
                <a:off x="3553920" y="5543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 Box 13"/>
              <p:cNvSpPr/>
              <p:nvPr/>
            </p:nvSpPr>
            <p:spPr>
              <a:xfrm>
                <a:off x="6766920" y="3219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Text Box 14"/>
              <p:cNvSpPr/>
              <p:nvPr/>
            </p:nvSpPr>
            <p:spPr>
              <a:xfrm>
                <a:off x="6766920" y="5543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Text Box 15"/>
              <p:cNvSpPr/>
              <p:nvPr/>
            </p:nvSpPr>
            <p:spPr>
              <a:xfrm>
                <a:off x="3985920" y="21398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Text Box 16"/>
              <p:cNvSpPr/>
              <p:nvPr/>
            </p:nvSpPr>
            <p:spPr>
              <a:xfrm>
                <a:off x="7135560" y="21398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Text Box 17"/>
            <p:cNvSpPr/>
            <p:nvPr/>
          </p:nvSpPr>
          <p:spPr>
            <a:xfrm>
              <a:off x="585360" y="61484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Using DNA Probes to Detect Harmful Alle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dioactive prob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reveal DNA bands of interest on a g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fingerprinting is a set of laboratory procedu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at determines with near certainty whether two samples of DNA are from the same individua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at has provided a powerful tool for crime scene investiga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7"/>
          <p:cNvGrpSpPr/>
          <p:nvPr/>
        </p:nvGrpSpPr>
        <p:grpSpPr>
          <a:xfrm>
            <a:off x="2716200" y="4518000"/>
            <a:ext cx="4007160" cy="1920960"/>
            <a:chOff x="2716200" y="4518000"/>
            <a:chExt cx="4007160" cy="1920960"/>
          </a:xfrm>
        </p:grpSpPr>
        <p:pic>
          <p:nvPicPr>
            <p:cNvPr id="539" name="Picture 15" descr="_x000e_12_UN231_U.jpg 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2716200" y="4518000"/>
              <a:ext cx="34149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16"/>
            <p:cNvSpPr/>
            <p:nvPr/>
          </p:nvSpPr>
          <p:spPr>
            <a:xfrm>
              <a:off x="5450040" y="5257800"/>
              <a:ext cx="127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stigator at 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 the crime sce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bove), Narborough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gland (lef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tecting a harmful allele using restriction fragment analysis</a:t>
            </a:r>
            <a:br>
              <a:rPr sz="16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39"/>
          <p:cNvGrpSpPr/>
          <p:nvPr/>
        </p:nvGrpSpPr>
        <p:grpSpPr>
          <a:xfrm>
            <a:off x="4873680" y="1281240"/>
            <a:ext cx="3411000" cy="5246640"/>
            <a:chOff x="4873680" y="1281240"/>
            <a:chExt cx="3411000" cy="5246640"/>
          </a:xfrm>
        </p:grpSpPr>
        <p:pic>
          <p:nvPicPr>
            <p:cNvPr id="899" name="Picture 6" descr="_x000e_12_11c_3_U.jpg                                                 00049E5F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4873680" y="1281240"/>
              <a:ext cx="2851200" cy="52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Text Box 7"/>
            <p:cNvSpPr/>
            <p:nvPr/>
          </p:nvSpPr>
          <p:spPr>
            <a:xfrm>
              <a:off x="4983480" y="139608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4989960" y="23994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9"/>
            <p:cNvSpPr/>
            <p:nvPr/>
          </p:nvSpPr>
          <p:spPr>
            <a:xfrm>
              <a:off x="4983480" y="34297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10"/>
            <p:cNvSpPr/>
            <p:nvPr/>
          </p:nvSpPr>
          <p:spPr>
            <a:xfrm>
              <a:off x="4977000" y="41346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1"/>
            <p:cNvSpPr/>
            <p:nvPr/>
          </p:nvSpPr>
          <p:spPr>
            <a:xfrm>
              <a:off x="4983480" y="51375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2"/>
            <p:cNvSpPr/>
            <p:nvPr/>
          </p:nvSpPr>
          <p:spPr>
            <a:xfrm>
              <a:off x="5083920" y="138564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triction fragme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epa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13"/>
            <p:cNvSpPr/>
            <p:nvPr/>
          </p:nvSpPr>
          <p:spPr>
            <a:xfrm>
              <a:off x="5085360" y="2391840"/>
              <a:ext cx="1162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l electrophoresi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14"/>
            <p:cNvSpPr/>
            <p:nvPr/>
          </p:nvSpPr>
          <p:spPr>
            <a:xfrm>
              <a:off x="5083200" y="341244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lotting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15"/>
            <p:cNvSpPr/>
            <p:nvPr/>
          </p:nvSpPr>
          <p:spPr>
            <a:xfrm>
              <a:off x="5078520" y="412380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adioactive pro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16"/>
            <p:cNvSpPr/>
            <p:nvPr/>
          </p:nvSpPr>
          <p:spPr>
            <a:xfrm>
              <a:off x="5085000" y="5117760"/>
              <a:ext cx="139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tection of radioactiv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utoradiography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7"/>
            <p:cNvSpPr/>
            <p:nvPr/>
          </p:nvSpPr>
          <p:spPr>
            <a:xfrm>
              <a:off x="6774120" y="1779120"/>
              <a:ext cx="22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18"/>
            <p:cNvSpPr/>
            <p:nvPr/>
          </p:nvSpPr>
          <p:spPr>
            <a:xfrm>
              <a:off x="6955200" y="177912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19"/>
            <p:cNvSpPr/>
            <p:nvPr/>
          </p:nvSpPr>
          <p:spPr>
            <a:xfrm>
              <a:off x="7140960" y="1779120"/>
              <a:ext cx="29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6869160" y="2485440"/>
              <a:ext cx="22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21"/>
            <p:cNvSpPr/>
            <p:nvPr/>
          </p:nvSpPr>
          <p:spPr>
            <a:xfrm>
              <a:off x="6998040" y="24854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22"/>
            <p:cNvSpPr/>
            <p:nvPr/>
          </p:nvSpPr>
          <p:spPr>
            <a:xfrm>
              <a:off x="7116840" y="2485440"/>
              <a:ext cx="29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6139080" y="21124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tric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24"/>
            <p:cNvSpPr/>
            <p:nvPr/>
          </p:nvSpPr>
          <p:spPr>
            <a:xfrm>
              <a:off x="6277320" y="3544200"/>
              <a:ext cx="695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lter pap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25"/>
            <p:cNvSpPr/>
            <p:nvPr/>
          </p:nvSpPr>
          <p:spPr>
            <a:xfrm flipH="1" flipV="1">
              <a:off x="6883560" y="3684600"/>
              <a:ext cx="8568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26"/>
            <p:cNvSpPr/>
            <p:nvPr/>
          </p:nvSpPr>
          <p:spPr>
            <a:xfrm>
              <a:off x="6395040" y="476496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b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7"/>
            <p:cNvSpPr/>
            <p:nvPr/>
          </p:nvSpPr>
          <p:spPr>
            <a:xfrm flipV="1">
              <a:off x="6978600" y="5848200"/>
              <a:ext cx="16992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28"/>
            <p:cNvSpPr/>
            <p:nvPr/>
          </p:nvSpPr>
          <p:spPr>
            <a:xfrm>
              <a:off x="7108920" y="4419360"/>
              <a:ext cx="117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dioactive, single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anded DNA (prob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29"/>
            <p:cNvSpPr/>
            <p:nvPr/>
          </p:nvSpPr>
          <p:spPr>
            <a:xfrm>
              <a:off x="7077240" y="5709600"/>
              <a:ext cx="40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lm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30"/>
            <p:cNvSpPr/>
            <p:nvPr/>
          </p:nvSpPr>
          <p:spPr>
            <a:xfrm>
              <a:off x="6572520" y="5023800"/>
              <a:ext cx="22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31"/>
            <p:cNvSpPr/>
            <p:nvPr/>
          </p:nvSpPr>
          <p:spPr>
            <a:xfrm>
              <a:off x="6599520" y="515088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32"/>
            <p:cNvSpPr/>
            <p:nvPr/>
          </p:nvSpPr>
          <p:spPr>
            <a:xfrm>
              <a:off x="6642360" y="5285880"/>
              <a:ext cx="29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33"/>
            <p:cNvSpPr/>
            <p:nvPr/>
          </p:nvSpPr>
          <p:spPr>
            <a:xfrm>
              <a:off x="6521760" y="5904720"/>
              <a:ext cx="22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34"/>
            <p:cNvSpPr/>
            <p:nvPr/>
          </p:nvSpPr>
          <p:spPr>
            <a:xfrm>
              <a:off x="6556680" y="6047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35"/>
            <p:cNvSpPr/>
            <p:nvPr/>
          </p:nvSpPr>
          <p:spPr>
            <a:xfrm>
              <a:off x="6615360" y="6198480"/>
              <a:ext cx="29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36"/>
            <p:cNvSpPr/>
            <p:nvPr/>
          </p:nvSpPr>
          <p:spPr>
            <a:xfrm flipV="1">
              <a:off x="6983280" y="4547880"/>
              <a:ext cx="20484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Text Box 37"/>
          <p:cNvSpPr/>
          <p:nvPr/>
        </p:nvSpPr>
        <p:spPr>
          <a:xfrm>
            <a:off x="3641400" y="61009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2 DNA technology is used in courts of la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fingerprinting can help solve cri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1"/>
          <p:cNvGrpSpPr/>
          <p:nvPr/>
        </p:nvGrpSpPr>
        <p:grpSpPr>
          <a:xfrm>
            <a:off x="260280" y="2212920"/>
            <a:ext cx="4451400" cy="3619440"/>
            <a:chOff x="260280" y="2212920"/>
            <a:chExt cx="4451400" cy="3619440"/>
          </a:xfrm>
        </p:grpSpPr>
        <p:pic>
          <p:nvPicPr>
            <p:cNvPr id="937" name="Picture 5" descr="_x000c_12_12a_U.jpg                                                   000538F5_x0007_Abhinav                        BDE0E65C:"/>
            <p:cNvPicPr/>
            <p:nvPr/>
          </p:nvPicPr>
          <p:blipFill>
            <a:blip r:embed="rId1"/>
            <a:stretch/>
          </p:blipFill>
          <p:spPr>
            <a:xfrm>
              <a:off x="260280" y="2529000"/>
              <a:ext cx="4451400" cy="33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Text Box 6"/>
            <p:cNvSpPr/>
            <p:nvPr/>
          </p:nvSpPr>
          <p:spPr>
            <a:xfrm>
              <a:off x="417240" y="2347920"/>
              <a:ext cx="8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fendant’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7"/>
            <p:cNvSpPr/>
            <p:nvPr/>
          </p:nvSpPr>
          <p:spPr>
            <a:xfrm>
              <a:off x="1825920" y="2212920"/>
              <a:ext cx="1269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od f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fendant’s cloth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8"/>
            <p:cNvSpPr/>
            <p:nvPr/>
          </p:nvSpPr>
          <p:spPr>
            <a:xfrm rot="5400000">
              <a:off x="2403360" y="1955880"/>
              <a:ext cx="108000" cy="134928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34920 h 1349280"/>
                <a:gd name="textAreaBottom" fmla="*/ 1314360 h 13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9"/>
            <p:cNvSpPr/>
            <p:nvPr/>
          </p:nvSpPr>
          <p:spPr>
            <a:xfrm>
              <a:off x="3775320" y="2347920"/>
              <a:ext cx="615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ictim’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Text Box 12"/>
          <p:cNvSpPr/>
          <p:nvPr/>
        </p:nvSpPr>
        <p:spPr>
          <a:xfrm>
            <a:off x="1479240" y="572760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14"/>
          <p:cNvGrpSpPr/>
          <p:nvPr/>
        </p:nvGrpSpPr>
        <p:grpSpPr>
          <a:xfrm>
            <a:off x="4991040" y="1419120"/>
            <a:ext cx="3894120" cy="4573800"/>
            <a:chOff x="4991040" y="1419120"/>
            <a:chExt cx="3894120" cy="4573800"/>
          </a:xfrm>
        </p:grpSpPr>
        <p:pic>
          <p:nvPicPr>
            <p:cNvPr id="944" name="Picture 10" descr="_x000c_12_12b_U.jpg                                                   0004A2E5&#10; RKAUL-5                       BCE4327F:"/>
            <p:cNvPicPr/>
            <p:nvPr/>
          </p:nvPicPr>
          <p:blipFill>
            <a:blip r:embed="rId2"/>
            <a:stretch/>
          </p:blipFill>
          <p:spPr>
            <a:xfrm>
              <a:off x="4991040" y="1419120"/>
              <a:ext cx="38941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 Box 13"/>
            <p:cNvSpPr/>
            <p:nvPr/>
          </p:nvSpPr>
          <p:spPr>
            <a:xfrm>
              <a:off x="6260760" y="57164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2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2.13 Gene therapy may someday help treat a variety of dis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ene therapy Is the alteration of an afflicted individual’s ge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24" descr="_x000b_12_13_U.jpg                                                    00053933_x0007_Abhinav                        BDE0E65C:"/>
          <p:cNvPicPr/>
          <p:nvPr/>
        </p:nvPicPr>
        <p:blipFill>
          <a:blip r:embed="rId1"/>
          <a:stretch/>
        </p:blipFill>
        <p:spPr>
          <a:xfrm>
            <a:off x="3927600" y="2976480"/>
            <a:ext cx="1963440" cy="3313080"/>
          </a:xfrm>
          <a:prstGeom prst="rect">
            <a:avLst/>
          </a:prstGeom>
          <a:ln w="0">
            <a:noFill/>
          </a:ln>
        </p:spPr>
      </p:pic>
      <p:sp>
        <p:nvSpPr>
          <p:cNvPr id="950" name="Text Box 29"/>
          <p:cNvSpPr/>
          <p:nvPr/>
        </p:nvSpPr>
        <p:spPr>
          <a:xfrm>
            <a:off x="3912480" y="28782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oned g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normal alle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44"/>
          <p:cNvGrpSpPr/>
          <p:nvPr/>
        </p:nvGrpSpPr>
        <p:grpSpPr>
          <a:xfrm>
            <a:off x="4816440" y="3022560"/>
            <a:ext cx="1266840" cy="376200"/>
            <a:chOff x="4816440" y="3022560"/>
            <a:chExt cx="1266840" cy="376200"/>
          </a:xfrm>
        </p:grpSpPr>
        <p:sp>
          <p:nvSpPr>
            <p:cNvPr id="952" name="Text Box 28"/>
            <p:cNvSpPr/>
            <p:nvPr/>
          </p:nvSpPr>
          <p:spPr>
            <a:xfrm>
              <a:off x="4816440" y="3022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30"/>
            <p:cNvSpPr/>
            <p:nvPr/>
          </p:nvSpPr>
          <p:spPr>
            <a:xfrm>
              <a:off x="4943880" y="3030480"/>
              <a:ext cx="11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ert normal ge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o vir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45"/>
          <p:cNvGrpSpPr/>
          <p:nvPr/>
        </p:nvGrpSpPr>
        <p:grpSpPr>
          <a:xfrm>
            <a:off x="4825800" y="4106880"/>
            <a:ext cx="1282320" cy="368280"/>
            <a:chOff x="4825800" y="4106880"/>
            <a:chExt cx="1282320" cy="368280"/>
          </a:xfrm>
        </p:grpSpPr>
        <p:sp>
          <p:nvSpPr>
            <p:cNvPr id="955" name="Text Box 27"/>
            <p:cNvSpPr/>
            <p:nvPr/>
          </p:nvSpPr>
          <p:spPr>
            <a:xfrm>
              <a:off x="4825800" y="4121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31"/>
            <p:cNvSpPr/>
            <p:nvPr/>
          </p:nvSpPr>
          <p:spPr>
            <a:xfrm>
              <a:off x="4944240" y="410688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ect bone marr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ll with vir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46"/>
          <p:cNvGrpSpPr/>
          <p:nvPr/>
        </p:nvGrpSpPr>
        <p:grpSpPr>
          <a:xfrm>
            <a:off x="4825800" y="4748040"/>
            <a:ext cx="1193040" cy="376560"/>
            <a:chOff x="4825800" y="4748040"/>
            <a:chExt cx="1193040" cy="376560"/>
          </a:xfrm>
        </p:grpSpPr>
        <p:sp>
          <p:nvSpPr>
            <p:cNvPr id="958" name="Text Box 26"/>
            <p:cNvSpPr/>
            <p:nvPr/>
          </p:nvSpPr>
          <p:spPr>
            <a:xfrm>
              <a:off x="4825800" y="47480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32"/>
            <p:cNvSpPr/>
            <p:nvPr/>
          </p:nvSpPr>
          <p:spPr>
            <a:xfrm>
              <a:off x="4957200" y="475632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iral DNA inser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o chromos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47"/>
          <p:cNvGrpSpPr/>
          <p:nvPr/>
        </p:nvGrpSpPr>
        <p:grpSpPr>
          <a:xfrm>
            <a:off x="3978000" y="5946840"/>
            <a:ext cx="867960" cy="368280"/>
            <a:chOff x="3978000" y="5946840"/>
            <a:chExt cx="867960" cy="368280"/>
          </a:xfrm>
        </p:grpSpPr>
        <p:sp>
          <p:nvSpPr>
            <p:cNvPr id="961" name="Text Box 25"/>
            <p:cNvSpPr/>
            <p:nvPr/>
          </p:nvSpPr>
          <p:spPr>
            <a:xfrm>
              <a:off x="3978000" y="5952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33"/>
            <p:cNvSpPr/>
            <p:nvPr/>
          </p:nvSpPr>
          <p:spPr>
            <a:xfrm>
              <a:off x="4101480" y="59468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ject cel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o pat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Text Box 34"/>
          <p:cNvSpPr/>
          <p:nvPr/>
        </p:nvSpPr>
        <p:spPr>
          <a:xfrm>
            <a:off x="5118120" y="55562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5"/>
          <p:cNvSpPr/>
          <p:nvPr/>
        </p:nvSpPr>
        <p:spPr>
          <a:xfrm>
            <a:off x="4637160" y="5232240"/>
            <a:ext cx="30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6"/>
          <p:cNvSpPr/>
          <p:nvPr/>
        </p:nvSpPr>
        <p:spPr>
          <a:xfrm>
            <a:off x="4953600" y="5119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ne marr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 from pat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37"/>
          <p:cNvSpPr/>
          <p:nvPr/>
        </p:nvSpPr>
        <p:spPr>
          <a:xfrm flipV="1">
            <a:off x="4549680" y="3673440"/>
            <a:ext cx="45900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8"/>
          <p:cNvSpPr/>
          <p:nvPr/>
        </p:nvSpPr>
        <p:spPr>
          <a:xfrm>
            <a:off x="4958280" y="355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ral nucle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39"/>
          <p:cNvSpPr/>
          <p:nvPr/>
        </p:nvSpPr>
        <p:spPr>
          <a:xfrm flipV="1">
            <a:off x="4514760" y="4029120"/>
            <a:ext cx="49068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4950000" y="390528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ovir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41"/>
          <p:cNvSpPr/>
          <p:nvPr/>
        </p:nvSpPr>
        <p:spPr>
          <a:xfrm flipV="1">
            <a:off x="5322960" y="5888160"/>
            <a:ext cx="11592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2701440" y="59896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e therap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ay one day be used to treat both genetic diseases and nongenetic disord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fortunately, progress is slow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12.14 The PCR method is used to amplify DNA sequence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polymerase chain reaction (PC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be used to clone a small sample of DNA quickly, producing enough copies for analysi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15"/>
          <p:cNvGrpSpPr/>
          <p:nvPr/>
        </p:nvGrpSpPr>
        <p:grpSpPr>
          <a:xfrm>
            <a:off x="6326280" y="3594240"/>
            <a:ext cx="2092320" cy="2822040"/>
            <a:chOff x="6326280" y="3594240"/>
            <a:chExt cx="2092320" cy="2822040"/>
          </a:xfrm>
        </p:grpSpPr>
        <p:pic>
          <p:nvPicPr>
            <p:cNvPr id="979" name="Picture 5" descr="_x000b_12_14_U.jpg                                                    00053933_x0007_Abhinav                        BDE0E65C:"/>
            <p:cNvPicPr/>
            <p:nvPr/>
          </p:nvPicPr>
          <p:blipFill>
            <a:blip r:embed="rId1"/>
            <a:stretch/>
          </p:blipFill>
          <p:spPr>
            <a:xfrm>
              <a:off x="6380280" y="3594240"/>
              <a:ext cx="2038320" cy="23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Text Box 6"/>
            <p:cNvSpPr/>
            <p:nvPr/>
          </p:nvSpPr>
          <p:spPr>
            <a:xfrm>
              <a:off x="6423480" y="6016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7"/>
            <p:cNvSpPr/>
            <p:nvPr/>
          </p:nvSpPr>
          <p:spPr>
            <a:xfrm>
              <a:off x="6975720" y="6016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8"/>
            <p:cNvSpPr/>
            <p:nvPr/>
          </p:nvSpPr>
          <p:spPr>
            <a:xfrm>
              <a:off x="7452000" y="6016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9"/>
            <p:cNvSpPr/>
            <p:nvPr/>
          </p:nvSpPr>
          <p:spPr>
            <a:xfrm>
              <a:off x="7934760" y="6016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0"/>
            <p:cNvSpPr/>
            <p:nvPr/>
          </p:nvSpPr>
          <p:spPr>
            <a:xfrm>
              <a:off x="6326280" y="479124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11"/>
            <p:cNvSpPr/>
            <p:nvPr/>
          </p:nvSpPr>
          <p:spPr>
            <a:xfrm>
              <a:off x="6734880" y="6200640"/>
              <a:ext cx="138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ber of DNA molecu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3"/>
          <p:cNvSpPr/>
          <p:nvPr/>
        </p:nvSpPr>
        <p:spPr>
          <a:xfrm>
            <a:off x="5213160" y="61596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Group 11"/>
          <p:cNvGrpSpPr/>
          <p:nvPr/>
        </p:nvGrpSpPr>
        <p:grpSpPr>
          <a:xfrm>
            <a:off x="2331720" y="4255920"/>
            <a:ext cx="4224600" cy="2186280"/>
            <a:chOff x="2331720" y="4255920"/>
            <a:chExt cx="4224600" cy="2186280"/>
          </a:xfrm>
        </p:grpSpPr>
        <p:pic>
          <p:nvPicPr>
            <p:cNvPr id="989" name="Picture 4" descr="_x000b_12_15_U.jpg 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313080" y="4255920"/>
              <a:ext cx="3243240" cy="21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Text Box 5"/>
            <p:cNvSpPr/>
            <p:nvPr/>
          </p:nvSpPr>
          <p:spPr>
            <a:xfrm>
              <a:off x="2331720" y="61545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ENOMICS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876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2.15 The Human Genome Project is an ambitious application of DNA technolog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450720">
              <a:spcBef>
                <a:spcPts val="81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Human Genome Project, begun in 1990 and now largely completed, involv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81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etic and physical mapping of chromosomes, followed by DNA sequenc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data are providing insight i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velopment, evolution, and many diseas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6 Most of the human genome does not consist of ge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haploid human genome contains about 25,000 ge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nd a huge amount of noncoding DN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uch of the noncoding DNA consists of repetitive nucleotide seque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nd transposons that can move about within the gen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ACTERIAL PLASMIDS AND GENE CLONIN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 Plasmids are used to customize bacteria: An overvie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e cloning is one application of 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ethods for studying and manipulating genetic materia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7 The science of genomics compares whole gen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equencing of many prokaryotic and eukaryotic geno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as produced data for genomics, the study of whole genom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sides being interesting themselv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onhuman genomes can be compared with the human gen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666000" y="2467080"/>
            <a:ext cx="7979400" cy="3911400"/>
            <a:chOff x="666000" y="2467080"/>
            <a:chExt cx="7979400" cy="3911400"/>
          </a:xfrm>
        </p:grpSpPr>
        <p:pic>
          <p:nvPicPr>
            <p:cNvPr id="1009" name="Picture 5" descr="_x000b_12_17_T.jpg                                                    0004A30F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1606320" y="2467080"/>
              <a:ext cx="7039080" cy="39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Text Box 6"/>
            <p:cNvSpPr/>
            <p:nvPr/>
          </p:nvSpPr>
          <p:spPr>
            <a:xfrm>
              <a:off x="666000" y="598320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2.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teomic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the study of the full sets of proteins produced by organism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ENETICALLY MODIFIED ORGANISMS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8 Genetically modified organisms are transforming agricul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combinant 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be used to produce new genetic varieties of plants and animals, genetically modified (GM) organism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Picture 5" descr="_x000c_12_18a_U.jpg                                                   00053933_x0007_Abhinav                        BDE0E65C:"/>
          <p:cNvPicPr/>
          <p:nvPr/>
        </p:nvPicPr>
        <p:blipFill>
          <a:blip r:embed="rId1"/>
          <a:stretch/>
        </p:blipFill>
        <p:spPr>
          <a:xfrm>
            <a:off x="690480" y="3259080"/>
            <a:ext cx="7888320" cy="2395440"/>
          </a:xfrm>
          <a:prstGeom prst="rect">
            <a:avLst/>
          </a:prstGeom>
          <a:ln w="0">
            <a:noFill/>
          </a:ln>
        </p:spPr>
      </p:pic>
      <p:sp>
        <p:nvSpPr>
          <p:cNvPr id="1021" name="Text Box 6"/>
          <p:cNvSpPr/>
          <p:nvPr/>
        </p:nvSpPr>
        <p:spPr>
          <a:xfrm>
            <a:off x="424800" y="3094200"/>
            <a:ext cx="20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grobacterium tumefac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7"/>
          <p:cNvSpPr/>
          <p:nvPr/>
        </p:nvSpPr>
        <p:spPr>
          <a:xfrm>
            <a:off x="2292480" y="3556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for desired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8"/>
          <p:cNvSpPr/>
          <p:nvPr/>
        </p:nvSpPr>
        <p:spPr>
          <a:xfrm>
            <a:off x="1069920" y="4457880"/>
            <a:ext cx="7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26"/>
          <p:cNvGrpSpPr/>
          <p:nvPr/>
        </p:nvGrpSpPr>
        <p:grpSpPr>
          <a:xfrm>
            <a:off x="1894320" y="4405320"/>
            <a:ext cx="1419840" cy="1219320"/>
            <a:chOff x="1894320" y="4405320"/>
            <a:chExt cx="1419840" cy="1219320"/>
          </a:xfrm>
        </p:grpSpPr>
        <p:sp>
          <p:nvSpPr>
            <p:cNvPr id="1025" name="Text Box 9"/>
            <p:cNvSpPr/>
            <p:nvPr/>
          </p:nvSpPr>
          <p:spPr>
            <a:xfrm>
              <a:off x="2259000" y="4405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2"/>
            <p:cNvSpPr/>
            <p:nvPr/>
          </p:nvSpPr>
          <p:spPr>
            <a:xfrm>
              <a:off x="1894320" y="4800600"/>
              <a:ext cx="141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ertion of 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o plasmid u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triction enzy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Text Box 13"/>
          <p:cNvSpPr/>
          <p:nvPr/>
        </p:nvSpPr>
        <p:spPr>
          <a:xfrm>
            <a:off x="3263760" y="4559400"/>
            <a:ext cx="1005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mbin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 plasm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27"/>
          <p:cNvGrpSpPr/>
          <p:nvPr/>
        </p:nvGrpSpPr>
        <p:grpSpPr>
          <a:xfrm>
            <a:off x="4359600" y="4405320"/>
            <a:ext cx="981000" cy="1193760"/>
            <a:chOff x="4359600" y="4405320"/>
            <a:chExt cx="981000" cy="1193760"/>
          </a:xfrm>
        </p:grpSpPr>
        <p:sp>
          <p:nvSpPr>
            <p:cNvPr id="1029" name="Text Box 10"/>
            <p:cNvSpPr/>
            <p:nvPr/>
          </p:nvSpPr>
          <p:spPr>
            <a:xfrm>
              <a:off x="4636800" y="4405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14"/>
            <p:cNvSpPr/>
            <p:nvPr/>
          </p:nvSpPr>
          <p:spPr>
            <a:xfrm>
              <a:off x="4359600" y="4775040"/>
              <a:ext cx="981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o pl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s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Group 28"/>
          <p:cNvGrpSpPr/>
          <p:nvPr/>
        </p:nvGrpSpPr>
        <p:grpSpPr>
          <a:xfrm>
            <a:off x="6377400" y="4405320"/>
            <a:ext cx="1099800" cy="879840"/>
            <a:chOff x="6377400" y="4405320"/>
            <a:chExt cx="1099800" cy="879840"/>
          </a:xfrm>
        </p:grpSpPr>
        <p:sp>
          <p:nvSpPr>
            <p:cNvPr id="1032" name="Text Box 11"/>
            <p:cNvSpPr/>
            <p:nvPr/>
          </p:nvSpPr>
          <p:spPr>
            <a:xfrm>
              <a:off x="6656040" y="4405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15"/>
            <p:cNvSpPr/>
            <p:nvPr/>
          </p:nvSpPr>
          <p:spPr>
            <a:xfrm>
              <a:off x="6377400" y="4826160"/>
              <a:ext cx="109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pl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 Box 16"/>
          <p:cNvSpPr/>
          <p:nvPr/>
        </p:nvSpPr>
        <p:spPr>
          <a:xfrm>
            <a:off x="7128000" y="546084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with new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7"/>
          <p:cNvSpPr/>
          <p:nvPr/>
        </p:nvSpPr>
        <p:spPr>
          <a:xfrm rot="5400000">
            <a:off x="5731560" y="4990320"/>
            <a:ext cx="108000" cy="719280"/>
          </a:xfrm>
          <a:custGeom>
            <a:avLst/>
            <a:gdLst>
              <a:gd name="textAreaLeft" fmla="*/ 0 w 108000"/>
              <a:gd name="textAreaRight" fmla="*/ 38880 w 108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8"/>
          <p:cNvSpPr/>
          <p:nvPr/>
        </p:nvSpPr>
        <p:spPr>
          <a:xfrm>
            <a:off x="4702680" y="537372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DNA carry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within plant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9"/>
          <p:cNvSpPr/>
          <p:nvPr/>
        </p:nvSpPr>
        <p:spPr>
          <a:xfrm>
            <a:off x="5859000" y="35812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20"/>
          <p:cNvSpPr/>
          <p:nvPr/>
        </p:nvSpPr>
        <p:spPr>
          <a:xfrm flipH="1">
            <a:off x="952560" y="5176800"/>
            <a:ext cx="326880" cy="2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21"/>
          <p:cNvSpPr/>
          <p:nvPr/>
        </p:nvSpPr>
        <p:spPr>
          <a:xfrm>
            <a:off x="628560" y="54356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22"/>
          <p:cNvSpPr/>
          <p:nvPr/>
        </p:nvSpPr>
        <p:spPr>
          <a:xfrm flipH="1">
            <a:off x="1409400" y="5168880"/>
            <a:ext cx="1260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3"/>
          <p:cNvSpPr/>
          <p:nvPr/>
        </p:nvSpPr>
        <p:spPr>
          <a:xfrm>
            <a:off x="1147680" y="571500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24"/>
          <p:cNvSpPr/>
          <p:nvPr/>
        </p:nvSpPr>
        <p:spPr>
          <a:xfrm>
            <a:off x="3831840" y="602784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8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nsgenic organis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those that have had genes from other organisms inserted into their genom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Group 6"/>
          <p:cNvGrpSpPr/>
          <p:nvPr/>
        </p:nvGrpSpPr>
        <p:grpSpPr>
          <a:xfrm>
            <a:off x="1412280" y="2982960"/>
            <a:ext cx="6340680" cy="3441600"/>
            <a:chOff x="1412280" y="2982960"/>
            <a:chExt cx="6340680" cy="3441600"/>
          </a:xfrm>
        </p:grpSpPr>
        <p:pic>
          <p:nvPicPr>
            <p:cNvPr id="1047" name="Picture 4" descr="_x000c_12_18b_U.jpg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2498400" y="2982960"/>
              <a:ext cx="525456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Text Box 5"/>
            <p:cNvSpPr/>
            <p:nvPr/>
          </p:nvSpPr>
          <p:spPr>
            <a:xfrm>
              <a:off x="1412280" y="59356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8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number of important crops and pla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genetically modifi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9 Could GM organisms harm human health or the environme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velopment of GM organis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quires significant safety measu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7"/>
          <p:cNvGrpSpPr/>
          <p:nvPr/>
        </p:nvGrpSpPr>
        <p:grpSpPr>
          <a:xfrm>
            <a:off x="1842840" y="3387600"/>
            <a:ext cx="5048640" cy="2949480"/>
            <a:chOff x="1842840" y="3387600"/>
            <a:chExt cx="5048640" cy="2949480"/>
          </a:xfrm>
        </p:grpSpPr>
        <p:pic>
          <p:nvPicPr>
            <p:cNvPr id="1056" name="Picture 5" descr="_x000c_12_19a_U.jpg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040200" y="3387600"/>
              <a:ext cx="38512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Text Box 6"/>
            <p:cNvSpPr/>
            <p:nvPr/>
          </p:nvSpPr>
          <p:spPr>
            <a:xfrm>
              <a:off x="1842840" y="601956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9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etic engineering involves risk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uch as ecological damage from GM cro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6"/>
          <p:cNvGrpSpPr/>
          <p:nvPr/>
        </p:nvGrpSpPr>
        <p:grpSpPr>
          <a:xfrm>
            <a:off x="2558520" y="2602080"/>
            <a:ext cx="4105440" cy="3822480"/>
            <a:chOff x="2558520" y="2602080"/>
            <a:chExt cx="4105440" cy="3822480"/>
          </a:xfrm>
        </p:grpSpPr>
        <p:pic>
          <p:nvPicPr>
            <p:cNvPr id="1062" name="Picture 4" descr="_x000c_12_19b_U.jpg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670200" y="2602080"/>
              <a:ext cx="2993760" cy="38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Text Box 5"/>
            <p:cNvSpPr/>
            <p:nvPr/>
          </p:nvSpPr>
          <p:spPr>
            <a:xfrm>
              <a:off x="2558520" y="6045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9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20 Genomics researcher Eric Lander discusses the Human Genome Proje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omics pioneer Eric Land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oints out that much remains to be learned from the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       Human Genome Proj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Group 8"/>
          <p:cNvGrpSpPr/>
          <p:nvPr/>
        </p:nvGrpSpPr>
        <p:grpSpPr>
          <a:xfrm>
            <a:off x="2506320" y="3467160"/>
            <a:ext cx="3395880" cy="3043080"/>
            <a:chOff x="2506320" y="3467160"/>
            <a:chExt cx="3395880" cy="3043080"/>
          </a:xfrm>
        </p:grpSpPr>
        <p:pic>
          <p:nvPicPr>
            <p:cNvPr id="1068" name="Picture 6" descr="_x000b_12_20_U.jpg 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470040" y="3467160"/>
              <a:ext cx="2432160" cy="30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Text Box 7"/>
            <p:cNvSpPr/>
            <p:nvPr/>
          </p:nvSpPr>
          <p:spPr>
            <a:xfrm>
              <a:off x="2506320" y="61545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combinant DNA Techn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2280" y="1600200"/>
            <a:ext cx="88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searchers can insert desired genes into plasmids, creat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combinant DNA (combing genes from one source and inser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ose plasmi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o bacteria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7" descr="&#13;12_01_3_U.jpg                                                  0051B33B_x0003_203                            BE738D99:"/>
          <p:cNvPicPr/>
          <p:nvPr/>
        </p:nvPicPr>
        <p:blipFill>
          <a:blip r:embed="rId1"/>
          <a:stretch/>
        </p:blipFill>
        <p:spPr>
          <a:xfrm>
            <a:off x="2832120" y="2487600"/>
            <a:ext cx="4178160" cy="3562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3"/>
          <p:cNvSpPr/>
          <p:nvPr/>
        </p:nvSpPr>
        <p:spPr>
          <a:xfrm>
            <a:off x="3069000" y="2486160"/>
            <a:ext cx="57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2778480" y="319248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5"/>
          <p:cNvSpPr/>
          <p:nvPr/>
        </p:nvSpPr>
        <p:spPr>
          <a:xfrm>
            <a:off x="3117960" y="29210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6"/>
          <p:cNvSpPr/>
          <p:nvPr/>
        </p:nvSpPr>
        <p:spPr>
          <a:xfrm>
            <a:off x="3613320" y="2898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3368880" y="3184560"/>
            <a:ext cx="49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9"/>
          <p:cNvGrpSpPr/>
          <p:nvPr/>
        </p:nvGrpSpPr>
        <p:grpSpPr>
          <a:xfrm>
            <a:off x="3765240" y="2548080"/>
            <a:ext cx="591840" cy="307080"/>
            <a:chOff x="3765240" y="2548080"/>
            <a:chExt cx="591840" cy="307080"/>
          </a:xfrm>
        </p:grpSpPr>
        <p:sp>
          <p:nvSpPr>
            <p:cNvPr id="554" name="Rectangle 8"/>
            <p:cNvSpPr/>
            <p:nvPr/>
          </p:nvSpPr>
          <p:spPr>
            <a:xfrm>
              <a:off x="3765240" y="25556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8"/>
            <p:cNvSpPr/>
            <p:nvPr/>
          </p:nvSpPr>
          <p:spPr>
            <a:xfrm>
              <a:off x="3862440" y="254808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asmi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ola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40"/>
          <p:cNvGrpSpPr/>
          <p:nvPr/>
        </p:nvGrpSpPr>
        <p:grpSpPr>
          <a:xfrm>
            <a:off x="4620960" y="2978280"/>
            <a:ext cx="813960" cy="307080"/>
            <a:chOff x="4620960" y="2978280"/>
            <a:chExt cx="813960" cy="307080"/>
          </a:xfrm>
        </p:grpSpPr>
        <p:sp>
          <p:nvSpPr>
            <p:cNvPr id="557" name="Rectangle 9"/>
            <p:cNvSpPr/>
            <p:nvPr/>
          </p:nvSpPr>
          <p:spPr>
            <a:xfrm>
              <a:off x="4620960" y="29890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9"/>
            <p:cNvSpPr/>
            <p:nvPr/>
          </p:nvSpPr>
          <p:spPr>
            <a:xfrm>
              <a:off x="4702680" y="2978280"/>
              <a:ext cx="7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ne inser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o plasmi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41"/>
          <p:cNvGrpSpPr/>
          <p:nvPr/>
        </p:nvGrpSpPr>
        <p:grpSpPr>
          <a:xfrm>
            <a:off x="5655960" y="2752560"/>
            <a:ext cx="596160" cy="307080"/>
            <a:chOff x="5655960" y="2752560"/>
            <a:chExt cx="596160" cy="307080"/>
          </a:xfrm>
        </p:grpSpPr>
        <p:sp>
          <p:nvSpPr>
            <p:cNvPr id="560" name="Rectangle 10"/>
            <p:cNvSpPr/>
            <p:nvPr/>
          </p:nvSpPr>
          <p:spPr>
            <a:xfrm>
              <a:off x="5655960" y="27637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0"/>
            <p:cNvSpPr/>
            <p:nvPr/>
          </p:nvSpPr>
          <p:spPr>
            <a:xfrm>
              <a:off x="5768280" y="2752560"/>
              <a:ext cx="48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ola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Rectangle 21"/>
          <p:cNvSpPr/>
          <p:nvPr/>
        </p:nvSpPr>
        <p:spPr>
          <a:xfrm>
            <a:off x="6144480" y="251460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ll containing 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f inter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6393600" y="3376440"/>
            <a:ext cx="36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3"/>
          <p:cNvSpPr/>
          <p:nvPr/>
        </p:nvSpPr>
        <p:spPr>
          <a:xfrm>
            <a:off x="6531120" y="305424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4"/>
          <p:cNvSpPr/>
          <p:nvPr/>
        </p:nvSpPr>
        <p:spPr>
          <a:xfrm>
            <a:off x="5695200" y="3470400"/>
            <a:ext cx="49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 o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5"/>
          <p:cNvSpPr/>
          <p:nvPr/>
        </p:nvSpPr>
        <p:spPr>
          <a:xfrm>
            <a:off x="5533920" y="3321000"/>
            <a:ext cx="20160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6"/>
          <p:cNvSpPr/>
          <p:nvPr/>
        </p:nvSpPr>
        <p:spPr>
          <a:xfrm>
            <a:off x="3900600" y="336708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plasmid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42"/>
          <p:cNvGrpSpPr/>
          <p:nvPr/>
        </p:nvGrpSpPr>
        <p:grpSpPr>
          <a:xfrm>
            <a:off x="4910040" y="3587760"/>
            <a:ext cx="906480" cy="307080"/>
            <a:chOff x="4910040" y="3587760"/>
            <a:chExt cx="906480" cy="307080"/>
          </a:xfrm>
        </p:grpSpPr>
        <p:sp>
          <p:nvSpPr>
            <p:cNvPr id="569" name="Rectangle 11"/>
            <p:cNvSpPr/>
            <p:nvPr/>
          </p:nvSpPr>
          <p:spPr>
            <a:xfrm>
              <a:off x="4910040" y="36050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7"/>
            <p:cNvSpPr/>
            <p:nvPr/>
          </p:nvSpPr>
          <p:spPr>
            <a:xfrm>
              <a:off x="5009400" y="358776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asmid put in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cterial ce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28"/>
          <p:cNvSpPr/>
          <p:nvPr/>
        </p:nvSpPr>
        <p:spPr>
          <a:xfrm>
            <a:off x="3880440" y="39052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43"/>
          <p:cNvGrpSpPr/>
          <p:nvPr/>
        </p:nvGrpSpPr>
        <p:grpSpPr>
          <a:xfrm>
            <a:off x="4908240" y="4243320"/>
            <a:ext cx="1000800" cy="307080"/>
            <a:chOff x="4908240" y="4243320"/>
            <a:chExt cx="1000800" cy="307080"/>
          </a:xfrm>
        </p:grpSpPr>
        <p:sp>
          <p:nvSpPr>
            <p:cNvPr id="573" name="Rectangle 12"/>
            <p:cNvSpPr/>
            <p:nvPr/>
          </p:nvSpPr>
          <p:spPr>
            <a:xfrm>
              <a:off x="4908240" y="42526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9"/>
            <p:cNvSpPr/>
            <p:nvPr/>
          </p:nvSpPr>
          <p:spPr>
            <a:xfrm>
              <a:off x="5002920" y="4243320"/>
              <a:ext cx="90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ll multiplies wi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ne of intere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Rectangle 30"/>
          <p:cNvSpPr/>
          <p:nvPr/>
        </p:nvSpPr>
        <p:spPr>
          <a:xfrm>
            <a:off x="5313600" y="4637160"/>
            <a:ext cx="84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ies of prote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1"/>
          <p:cNvSpPr/>
          <p:nvPr/>
        </p:nvSpPr>
        <p:spPr>
          <a:xfrm>
            <a:off x="3816000" y="4627440"/>
            <a:ext cx="772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ies of 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2"/>
          <p:cNvSpPr/>
          <p:nvPr/>
        </p:nvSpPr>
        <p:spPr>
          <a:xfrm>
            <a:off x="4540320" y="5175360"/>
            <a:ext cx="709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one of cel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3"/>
          <p:cNvSpPr/>
          <p:nvPr/>
        </p:nvSpPr>
        <p:spPr>
          <a:xfrm>
            <a:off x="2911680" y="5199120"/>
            <a:ext cx="71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 for p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serted in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4"/>
          <p:cNvSpPr/>
          <p:nvPr/>
        </p:nvSpPr>
        <p:spPr>
          <a:xfrm>
            <a:off x="3525840" y="592596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 used to alter bacte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 cleaning up toxic was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5"/>
          <p:cNvSpPr/>
          <p:nvPr/>
        </p:nvSpPr>
        <p:spPr>
          <a:xfrm>
            <a:off x="5063040" y="5931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tein used to dissolve blood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ots in heart attack therap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6"/>
          <p:cNvSpPr/>
          <p:nvPr/>
        </p:nvSpPr>
        <p:spPr>
          <a:xfrm>
            <a:off x="6230880" y="521352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tein used t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ke snow form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t higher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5"/>
          <p:cNvSpPr/>
          <p:nvPr/>
        </p:nvSpPr>
        <p:spPr>
          <a:xfrm>
            <a:off x="1241640" y="58626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7 The science of genomics compares whole gen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equencing of many prokaryotic and eukaryotic geno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as produced data for genomics, the study of whole genom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smi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smids are small circular DNA molecuels that replicate separatelu from the much larger bacterial chromoso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cause plasmids can carry virtually any gene and replicate in bacteria, they are key tools for gene clon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the recombinant bacteria multiply into a clo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foreign genes are also copi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does the rapid reproduction of bacteria make them a good choice for cloning a foreign ge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2.2 Enzymes are used to “cut and paste” DNA </a:t>
            </a:r>
            <a:br>
              <a:rPr sz="2600"/>
            </a:b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2" name="Picture 5" descr="_x000b_12_02_U.jpg                                                    0051B33B_x0003_203                            BE738D99:"/>
          <p:cNvPicPr/>
          <p:nvPr/>
        </p:nvPicPr>
        <p:blipFill>
          <a:blip r:embed="rId1"/>
          <a:stretch/>
        </p:blipFill>
        <p:spPr>
          <a:xfrm>
            <a:off x="3228840" y="2001960"/>
            <a:ext cx="2859120" cy="4410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6"/>
          <p:cNvSpPr/>
          <p:nvPr/>
        </p:nvSpPr>
        <p:spPr>
          <a:xfrm rot="16200000">
            <a:off x="4611600" y="1660320"/>
            <a:ext cx="154080" cy="801720"/>
          </a:xfrm>
          <a:custGeom>
            <a:avLst/>
            <a:gdLst>
              <a:gd name="textAreaLeft" fmla="*/ 0 w 154080"/>
              <a:gd name="textAreaRight" fmla="*/ 55440 w 154080"/>
              <a:gd name="textAreaTop" fmla="*/ 20880 h 801720"/>
              <a:gd name="textAreaBottom" fmla="*/ 780840 h 80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4089240" y="163656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triction enzym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ognition sequ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4363560" y="2100240"/>
            <a:ext cx="660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A A T T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 A A 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3585600" y="21178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3306960" y="2136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3308760" y="3203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4705560" y="3809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304080" y="494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 rot="21211800">
            <a:off x="4081680" y="3184560"/>
            <a:ext cx="567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 A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5"/>
          <p:cNvSpPr/>
          <p:nvPr/>
        </p:nvSpPr>
        <p:spPr>
          <a:xfrm rot="5058000">
            <a:off x="4359240" y="3231720"/>
            <a:ext cx="92160" cy="349200"/>
          </a:xfrm>
          <a:custGeom>
            <a:avLst/>
            <a:gdLst>
              <a:gd name="textAreaLeft" fmla="*/ 0 w 92160"/>
              <a:gd name="textAreaRight" fmla="*/ 33120 w 92160"/>
              <a:gd name="textAreaTop" fmla="*/ 9000 h 349200"/>
              <a:gd name="textAreaBottom" fmla="*/ 340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6"/>
          <p:cNvSpPr/>
          <p:nvPr/>
        </p:nvSpPr>
        <p:spPr>
          <a:xfrm rot="361800">
            <a:off x="4726440" y="3084480"/>
            <a:ext cx="519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AT T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7"/>
          <p:cNvSpPr/>
          <p:nvPr/>
        </p:nvSpPr>
        <p:spPr>
          <a:xfrm rot="301200">
            <a:off x="4726440" y="36910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AT T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8"/>
          <p:cNvSpPr/>
          <p:nvPr/>
        </p:nvSpPr>
        <p:spPr>
          <a:xfrm rot="253800">
            <a:off x="5457600" y="3884760"/>
            <a:ext cx="567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 A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9"/>
          <p:cNvSpPr/>
          <p:nvPr/>
        </p:nvSpPr>
        <p:spPr>
          <a:xfrm>
            <a:off x="3479040" y="3762360"/>
            <a:ext cx="109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ition of a DNA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gment fro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other 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0"/>
          <p:cNvSpPr/>
          <p:nvPr/>
        </p:nvSpPr>
        <p:spPr>
          <a:xfrm>
            <a:off x="3478680" y="42577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wo (or more)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gments stick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gether b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e-pai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974400" y="48862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A AT T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A A 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4860000" y="4890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A AT T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A A 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3306960" y="6078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3476160" y="54849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NA lig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stes the str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470040" y="2498760"/>
            <a:ext cx="11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triction enzym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ts the DNA into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g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6"/>
          <p:cNvSpPr/>
          <p:nvPr/>
        </p:nvSpPr>
        <p:spPr>
          <a:xfrm>
            <a:off x="3942000" y="6296040"/>
            <a:ext cx="16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ombinant DNA molec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7"/>
          <p:cNvSpPr/>
          <p:nvPr/>
        </p:nvSpPr>
        <p:spPr>
          <a:xfrm rot="21527400">
            <a:off x="4123080" y="3093840"/>
            <a:ext cx="24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8"/>
          <p:cNvSpPr/>
          <p:nvPr/>
        </p:nvSpPr>
        <p:spPr>
          <a:xfrm rot="352800">
            <a:off x="4989600" y="3195720"/>
            <a:ext cx="24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4090320" y="3432240"/>
            <a:ext cx="71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icky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0"/>
          <p:cNvSpPr/>
          <p:nvPr/>
        </p:nvSpPr>
        <p:spPr>
          <a:xfrm rot="214200">
            <a:off x="5519880" y="3774960"/>
            <a:ext cx="24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2"/>
          <p:cNvSpPr/>
          <p:nvPr/>
        </p:nvSpPr>
        <p:spPr>
          <a:xfrm>
            <a:off x="1660680" y="618012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1"/>
          <p:cNvSpPr/>
          <p:nvPr/>
        </p:nvSpPr>
        <p:spPr>
          <a:xfrm>
            <a:off x="733320" y="2971800"/>
            <a:ext cx="2381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0af"/>
                </a:solidFill>
                <a:latin typeface="Arial"/>
              </a:rPr>
              <a:t>Creating recombinant DNA using </a:t>
            </a:r>
            <a:r>
              <a:rPr b="0" i="1" lang="en-US" sz="2200" spc="-1" strike="noStrike" u="sng">
                <a:solidFill>
                  <a:srgbClr val="0060af"/>
                </a:solidFill>
                <a:uFillTx/>
                <a:latin typeface="Arial"/>
              </a:rPr>
              <a:t>restriction enzymes </a:t>
            </a:r>
            <a:r>
              <a:rPr b="0" lang="en-US" sz="2200" spc="-1" strike="noStrike">
                <a:solidFill>
                  <a:srgbClr val="0060af"/>
                </a:solidFill>
                <a:latin typeface="Arial"/>
              </a:rPr>
              <a:t>and DNA lig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4-07T10:27:46Z</cp:lastPrinted>
  <dcterms:modified xsi:type="dcterms:W3CDTF">2010-02-07T19:57:45Z</dcterms:modified>
  <cp:revision>544</cp:revision>
  <dc:subject/>
  <dc:title>Slide 1</dc:title>
</cp:coreProperties>
</file>